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AFC-AD0A-4AE5-97E4-7CA235B1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413-328A-4019-9FC4-48DD9A2F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278-C9F9-4E32-BDCC-E29656AE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11B-2EB1-4EB2-A21D-EA32A25F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DB09-2EB9-4717-A3A9-38EAB4B8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A610-FAB9-4682-9910-056165A2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B335-EE3A-4279-B3D8-F71BBA1B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17C5-C0E3-4571-9F21-19C56257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360E-4FA1-42B6-9286-02907889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315B-014A-4AA9-9368-A62702B8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39A1-E302-4884-8D27-E3E09E6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734-1C39-408B-868E-36B5C468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1E7A-61F7-4CE6-9F7C-BF197931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48F5-8C8C-4693-B914-7C997CE9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CBC1-B21C-47AE-832D-FB9FF66B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2E89-3DE9-4DBA-9C9F-9D580BB2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55BF-154E-440B-8EA8-C74EEEB8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FA6FB-6EE8-4C8F-9699-960871F3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CB3B-2CEF-4366-AD82-76C3C8BE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2DC7-5534-4A8F-9E1F-CEDF9996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37B88-42AB-4868-9FE6-2C12BA0C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61B3-B3C6-49FE-8539-E9098DFA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4DA-AC72-40C7-BE75-B83B122A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E025-9277-4B67-8960-499202E5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9E6D-5110-4AE3-8C9C-FAEE32C0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9508-E985-460D-95E5-E139A44C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0F44E-8A1D-4455-A25B-36A30FB3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8C905-8C58-4AB8-9DFC-D5AE1790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EFB1-B38B-45EE-A010-760BA28F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D50C-C3F8-483D-810F-493C2BC4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385-60A2-4269-B15C-42E8BFA8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085-18AB-4318-9500-10677AE0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3EC-F247-4FDF-8EB3-300955C7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F1A-B2C4-404D-9DF2-153881D5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7F2-3314-4093-816E-7C70465A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670-D27E-416E-BD85-13CB642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A6C2-2B35-426A-A5E8-372780D2AB3D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ering, ApPE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64CA-FEF2-4831-BEBF-037AD517A94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ACF7-06F9-4BC6-9A93-F597A97F6E2C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ering, ApPEC et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05A3-C2CB-4ED5-9748-97AAFC3392D4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F75E-572D-4847-99B7-2702588F08B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456F-1422-4D27-BAF8-242B58A733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89000"/>
            <a:ext cx="8785440" cy="532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692280"/>
            <a:ext cx="8280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uropean Roadmap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 Astroparticle Physic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PEC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6D5-D241-4A26-AAFC-826939013296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25167-7231-4AD7-8DEA-3B7F42971F40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35280" y="765000"/>
            <a:ext cx="57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at will 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included ?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28080" y="4005360"/>
            <a:ext cx="735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confuse this with the que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hat belongs to Astroparticle Physics?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unique answer to this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595-3E74-4409-9114-0CB34CFCE41A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6F808-4E15-4F1E-88F7-BF5E6816E71A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836640"/>
            <a:ext cx="792360" cy="27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558400">
            <a:off x="1692000" y="486900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260000">
            <a:off x="6443280" y="515772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465300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347200">
            <a:off x="1331640" y="4437000"/>
            <a:ext cx="21564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66600">
            <a:off x="1692360" y="4365720"/>
            <a:ext cx="21564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1063600">
            <a:off x="2050560" y="4220640"/>
            <a:ext cx="216000" cy="14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1140400">
            <a:off x="2411280" y="4149720"/>
            <a:ext cx="21600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1107400">
            <a:off x="1618920" y="4005000"/>
            <a:ext cx="504720" cy="155520"/>
          </a:xfrm>
          <a:custGeom>
            <a:avLst/>
            <a:gdLst/>
            <a:ahLst/>
            <a:rect l="l" t="t" r="r" b="b"/>
            <a:pathLst>
              <a:path w="227" h="98">
                <a:moveTo>
                  <a:pt x="0" y="45"/>
                </a:moveTo>
                <a:cubicBezTo>
                  <a:pt x="49" y="71"/>
                  <a:pt x="98" y="98"/>
                  <a:pt x="136" y="91"/>
                </a:cubicBezTo>
                <a:cubicBezTo>
                  <a:pt x="174" y="84"/>
                  <a:pt x="200" y="42"/>
                  <a:pt x="227" y="0"/>
                </a:cubicBezTo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4149720"/>
            <a:ext cx="71640" cy="28728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92360" y="3716280"/>
            <a:ext cx="71280" cy="3603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3716280"/>
            <a:ext cx="287280" cy="2890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8520" y="35100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Charged Cosmic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GeV-TeV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incl. DM in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-324000" y="5300640"/>
            <a:ext cx="194328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06560" y="5445000"/>
            <a:ext cx="26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HE neutr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atm. neutr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(incl. DM in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0542200">
            <a:off x="4643280" y="3860640"/>
            <a:ext cx="720720" cy="71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01080" y="2492280"/>
            <a:ext cx="627120" cy="576360"/>
          </a:xfrm>
          <a:custGeom>
            <a:avLst/>
            <a:gdLst>
              <a:gd name="textAreaLeft" fmla="*/ 142920 w 627120"/>
              <a:gd name="textAreaRight" fmla="*/ 484200 w 6271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80000" y="2924280"/>
            <a:ext cx="2448000" cy="7920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0631600">
            <a:off x="5870160" y="2707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Solar ax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2440" y="486900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nder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nde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440" y="36450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i.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Hess, 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0614200">
            <a:off x="4482720" y="349992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15720" y="4724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634920" y="2636640"/>
            <a:ext cx="576360" cy="194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41040" y="51577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DM 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93080" y="3141360"/>
            <a:ext cx="1150920" cy="1942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36800" y="494172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37480" y="5661000"/>
            <a:ext cx="19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Solar </a:t>
            </a:r>
            <a:r>
              <a:rPr b="0" lang="de-DE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Supernova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70520" y="2133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W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3933720"/>
            <a:ext cx="0" cy="216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3860640"/>
            <a:ext cx="0" cy="2890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88000" y="189000"/>
            <a:ext cx="4356000" cy="2133000"/>
            <a:chOff x="4788000" y="189000"/>
            <a:chExt cx="4356000" cy="2133000"/>
          </a:xfrm>
        </p:grpSpPr>
        <p:sp>
          <p:nvSpPr>
            <p:cNvPr id="176" name=""/>
            <p:cNvSpPr/>
            <p:nvPr/>
          </p:nvSpPr>
          <p:spPr>
            <a:xfrm>
              <a:off x="6372360" y="33336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659280" y="18900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372000" y="62064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75200" y="309600"/>
              <a:ext cx="11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Franklin Gothic Medium"/>
                </a:rPr>
                <a:t>satell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8000" y="765000"/>
              <a:ext cx="4356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MeV/GeV </a:t>
              </a:r>
              <a:r>
                <a:rPr b="0" lang="de-DE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 (Agile, Gl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MeV/GeV CR (Pamela, AM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CR @ extreme energies (EUS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435-0A71-421D-B7EE-81331669A32E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08BDC-A628-493E-8338-F2B821922CB2}" type="datetime1">
              <a:rPr lang="en-US"/>
              <a:t>07/28/26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0558400">
            <a:off x="1115640" y="508464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90520" y="620640"/>
            <a:ext cx="56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 particles from heaven 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 same infrastructure  (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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osely related question (tritium dec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61080" y="551664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Symbol"/>
                <a:ea typeface="Symbol"/>
              </a:rPr>
              <a:t>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440" y="530064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520080" y="4125960"/>
            <a:ext cx="5702760" cy="1857240"/>
            <a:chOff x="3520080" y="4125960"/>
            <a:chExt cx="5702760" cy="1857240"/>
          </a:xfrm>
        </p:grpSpPr>
        <p:sp>
          <p:nvSpPr>
            <p:cNvPr id="187" name=""/>
            <p:cNvSpPr/>
            <p:nvPr/>
          </p:nvSpPr>
          <p:spPr>
            <a:xfrm>
              <a:off x="3995640" y="4653000"/>
              <a:ext cx="863640" cy="503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500720" y="4365720"/>
              <a:ext cx="2447640" cy="50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20080" y="5157720"/>
              <a:ext cx="477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Oscillations (accelerators) </a:t>
              </a:r>
              <a:r>
                <a:rPr b="0" lang="de-DE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 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Franklin Gothic Medium"/>
                </a:rPr>
                <a:t>proton dec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955800">
              <a:off x="6876720" y="4436640"/>
              <a:ext cx="1079640" cy="14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84200" y="412596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Franklin Gothic Medium"/>
                </a:rPr>
                <a:t>Accel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643280" y="3068640"/>
            <a:ext cx="2259360" cy="1152360"/>
            <a:chOff x="4643280" y="3068640"/>
            <a:chExt cx="2259360" cy="1152360"/>
          </a:xfrm>
        </p:grpSpPr>
        <p:sp>
          <p:nvSpPr>
            <p:cNvPr id="193" name=""/>
            <p:cNvSpPr/>
            <p:nvPr/>
          </p:nvSpPr>
          <p:spPr>
            <a:xfrm>
              <a:off x="4856400" y="306864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Laser axio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643280" y="3573360"/>
              <a:ext cx="865440" cy="647640"/>
              <a:chOff x="4643280" y="3573360"/>
              <a:chExt cx="865440" cy="647640"/>
            </a:xfrm>
          </p:grpSpPr>
          <p:sp>
            <p:nvSpPr>
              <p:cNvPr id="195" name=""/>
              <p:cNvSpPr/>
              <p:nvPr/>
            </p:nvSpPr>
            <p:spPr>
              <a:xfrm>
                <a:off x="4643280" y="3573360"/>
                <a:ext cx="86544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88000" y="3789360"/>
                <a:ext cx="574560" cy="4316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2917080" y="2852640"/>
            <a:ext cx="1440720" cy="1368360"/>
            <a:chOff x="2917080" y="2852640"/>
            <a:chExt cx="1440720" cy="1368360"/>
          </a:xfrm>
        </p:grpSpPr>
        <p:grpSp>
          <p:nvGrpSpPr>
            <p:cNvPr id="198" name=""/>
            <p:cNvGrpSpPr/>
            <p:nvPr/>
          </p:nvGrpSpPr>
          <p:grpSpPr>
            <a:xfrm>
              <a:off x="3492360" y="3573360"/>
              <a:ext cx="865440" cy="647640"/>
              <a:chOff x="3492360" y="3573360"/>
              <a:chExt cx="865440" cy="647640"/>
            </a:xfrm>
          </p:grpSpPr>
          <p:sp>
            <p:nvSpPr>
              <p:cNvPr id="199" name=""/>
              <p:cNvSpPr/>
              <p:nvPr/>
            </p:nvSpPr>
            <p:spPr>
              <a:xfrm>
                <a:off x="3492360" y="3573360"/>
                <a:ext cx="86544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37080" y="3789360"/>
                <a:ext cx="574560" cy="4316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917080" y="2852640"/>
              <a:ext cx="8622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ranklin Gothic Medium"/>
                </a:rPr>
                <a:t>m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71120" y="3519360"/>
            <a:ext cx="2216520" cy="1103760"/>
            <a:chOff x="771120" y="3519360"/>
            <a:chExt cx="2216520" cy="1103760"/>
          </a:xfrm>
        </p:grpSpPr>
        <p:sp>
          <p:nvSpPr>
            <p:cNvPr id="203" name=""/>
            <p:cNvSpPr/>
            <p:nvPr/>
          </p:nvSpPr>
          <p:spPr>
            <a:xfrm>
              <a:off x="1835280" y="4292640"/>
              <a:ext cx="79200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56000" y="4365720"/>
              <a:ext cx="431640" cy="21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517600">
              <a:off x="1476000" y="4076640"/>
              <a:ext cx="358920" cy="50328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1120" y="351936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React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1403280" y="3429000"/>
            <a:ext cx="762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80000" y="3933720"/>
            <a:ext cx="762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51E-1F0B-4E29-9922-ED4CFE57AA1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5053D-EF0C-4022-B436-1E2413A3F4B9}" type="datetime1">
              <a:rPr lang="en-US"/>
              <a:t>07/28/26</a:t>
            </a:fld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22960" y="3716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Resonance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43280" y="3573360"/>
            <a:ext cx="865440" cy="647640"/>
            <a:chOff x="4643280" y="3573360"/>
            <a:chExt cx="865440" cy="647640"/>
          </a:xfrm>
        </p:grpSpPr>
        <p:sp>
          <p:nvSpPr>
            <p:cNvPr id="212" name=""/>
            <p:cNvSpPr/>
            <p:nvPr/>
          </p:nvSpPr>
          <p:spPr>
            <a:xfrm>
              <a:off x="4643280" y="3573360"/>
              <a:ext cx="865440" cy="2160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88000" y="3789360"/>
              <a:ext cx="574560" cy="431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724000" y="476280"/>
            <a:ext cx="555840" cy="647640"/>
            <a:chOff x="5724000" y="476280"/>
            <a:chExt cx="555840" cy="647640"/>
          </a:xfrm>
        </p:grpSpPr>
        <p:sp>
          <p:nvSpPr>
            <p:cNvPr id="215" name=""/>
            <p:cNvSpPr/>
            <p:nvPr/>
          </p:nvSpPr>
          <p:spPr>
            <a:xfrm>
              <a:off x="5724360" y="62064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011280" y="47628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724000" y="90792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995280" y="763560"/>
            <a:ext cx="555840" cy="647640"/>
            <a:chOff x="3995280" y="763560"/>
            <a:chExt cx="555840" cy="647640"/>
          </a:xfrm>
        </p:grpSpPr>
        <p:sp>
          <p:nvSpPr>
            <p:cNvPr id="219" name=""/>
            <p:cNvSpPr/>
            <p:nvPr/>
          </p:nvSpPr>
          <p:spPr>
            <a:xfrm>
              <a:off x="3995640" y="90792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282560" y="76356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995280" y="119520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660720" y="1628640"/>
            <a:ext cx="555840" cy="647640"/>
            <a:chOff x="6660720" y="1628640"/>
            <a:chExt cx="555840" cy="647640"/>
          </a:xfrm>
        </p:grpSpPr>
        <p:sp>
          <p:nvSpPr>
            <p:cNvPr id="223" name=""/>
            <p:cNvSpPr/>
            <p:nvPr/>
          </p:nvSpPr>
          <p:spPr>
            <a:xfrm>
              <a:off x="6661080" y="177300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948000" y="162864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60720" y="206028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4284720" y="7632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1197000"/>
            <a:ext cx="244800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011640" y="907560"/>
            <a:ext cx="93636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042560" y="4221000"/>
            <a:ext cx="2016360" cy="43200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042560" y="4723920"/>
            <a:ext cx="2233800" cy="79236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84360" y="4365720"/>
            <a:ext cx="576000" cy="431640"/>
            <a:chOff x="684360" y="4365720"/>
            <a:chExt cx="576000" cy="431640"/>
          </a:xfrm>
        </p:grpSpPr>
        <p:sp>
          <p:nvSpPr>
            <p:cNvPr id="232" name=""/>
            <p:cNvSpPr/>
            <p:nvPr/>
          </p:nvSpPr>
          <p:spPr>
            <a:xfrm>
              <a:off x="684360" y="4365720"/>
              <a:ext cx="576000" cy="1440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0480" y="4509720"/>
              <a:ext cx="382320" cy="287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07480" y="3357720"/>
            <a:ext cx="26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Interfer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Geo-600, VIR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0480" y="333360"/>
            <a:ext cx="23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Interfe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low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LI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0920" y="404640"/>
            <a:ext cx="3238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vitat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ves    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ADD-FEB0-4792-BEB8-2A37598A89F8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65FF1-BBED-490D-A576-E04B2CFFF6F5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411280" y="476280"/>
            <a:ext cx="44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o not included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uclear astrophys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overed in nuclear physics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some countries listed under APP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rk Energy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ecessary to set the stage for APP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ully covered by astronomy commun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ot our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some countries under one roof with APP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rying fundamental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vity at short di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FFA-08C6-4549-85A9-DE280572EC8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36EAB-F091-4E11-8C02-80E98944C8DB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mpile the facts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ect questionnaires from all experiments with European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75 spokespersons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turn rate 96% (only 3 mi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cond loop for corrections fi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30 page document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will be available to the commu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rt communication with the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AUP, German Astroparticle Workshop,             this Town Meeting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51280" y="333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tep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B81-906F-4D01-8223-24003C09229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EF2D7-1A94-46E9-A1F2-3CD7429507D6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ntact CERN strategy group (Dec.12) and national roadmap committees</a:t>
            </a:r>
            <a:r>
              <a:rPr b="0" lang="de-DE" sz="28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draft at a PRC meeting in Berlin at        Jan. 16/17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draft to SC Meeting at Jan 23/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discussion with SC and modifications:  place the draft on the web for everybody (mid Februar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communication with ESFRI (ApPEC 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 from th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Meeting in Spring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Roadmap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to SC (May/June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51280" y="333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tep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2B8-6B5B-4F65-AB2C-799C6510FDF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7DCC5-9031-47B5-8D5F-4374C7F45C2F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smology and early Univers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ncluding dark ma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erties of partic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trino mass (direct and double beta)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otic particles (WIMPs, axions, Q-Balls,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gnetic  monopo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ton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mal Universe: Low energy neutr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thermal Universe (gamma, neutrinos, cosmic 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erties of the gravitational 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interferometers and resonant detec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47640" y="404640"/>
            <a:ext cx="6419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ections of the Roadmap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4D7C-B0CD-49E0-B4F0-C177197EEF0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FE155-0D14-4F81-A1C7-25C83D83CAE5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11280" y="401400"/>
            <a:ext cx="7921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eutrino Mass: single b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Tri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oitz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i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KATRIN     KATRIN bol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Rhenium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bet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nu-2</a:t>
            </a:r>
            <a:r>
              <a:rPr b="0" lang="it-IT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RE</a:t>
            </a:r>
            <a:r>
              <a:rPr b="0" lang="it-I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0160" y="1268280"/>
            <a:ext cx="1061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89440" y="2133720"/>
            <a:ext cx="1061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22160" y="5086440"/>
            <a:ext cx="1416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3080" y="2133720"/>
            <a:ext cx="1325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45840" y="4076640"/>
            <a:ext cx="1977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66920" y="4723920"/>
            <a:ext cx="0" cy="360360"/>
          </a:xfrm>
          <a:prstGeom prst="line">
            <a:avLst/>
          </a:prstGeom>
          <a:ln w="38160">
            <a:solidFill>
              <a:srgbClr val="cc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23320" y="5589720"/>
            <a:ext cx="3551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price tag KATRIN 34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633840" y="3141720"/>
            <a:ext cx="792000" cy="2448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268000" y="1700280"/>
            <a:ext cx="358920" cy="288720"/>
          </a:xfrm>
          <a:prstGeom prst="line">
            <a:avLst/>
          </a:prstGeom>
          <a:ln w="38160">
            <a:solidFill>
              <a:srgbClr val="cc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4C8-0F29-4D3D-8EDA-0260C71C6250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D06DD-3C26-4ECD-BAC0-4FE357AA0844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62120" y="304920"/>
            <a:ext cx="769608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Double Beta Experiments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318600" y="1413000"/>
            <a:ext cx="88279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levant neutrino mass parameter m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e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&gt; 1 meV is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periments are sensitive to (m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e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nuclear matrix element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matrix el. are highly uncertain (at diff. level for diff. nucl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orm collaboration of adequate size and expertise aiming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 sensitivity down to or below 10 m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ome redundancy in the choice of nuclei (at least worldw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gorous program to reduce uncertainty of nuclear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lements, at least for a few key 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360" y="5516640"/>
            <a:ext cx="77320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International Statement on neutrinoless Double-Beta Decay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94880" y="595008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ept.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0983800">
            <a:off x="7247160" y="907920"/>
            <a:ext cx="16027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B93-2B90-42D2-80D7-DFE527F67AA5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48F80-1DA6-4918-A6CE-C99C99E5E334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268280"/>
            <a:ext cx="8578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view and assess research propos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the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Astroparticle Physics at the request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EC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dvise and make recommend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roug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EC steering committee to the national fu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gencies involved in ApPEC on research propos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mitted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Keep under review current and proposed progra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es in Astroparticle Physics of interest to ApPE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ntribute to a medium and long-term plan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uture of APP in Eur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16000" y="260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Peer Review Committ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ACE-A165-49EF-8489-CA231C59B3F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82FA4-2E19-42AA-9349-0FA67A717DB5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50920" y="288720"/>
            <a:ext cx="8675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eutrino Mass: Double Beta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present     next 5 years 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 next 10 years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RDA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rda+Majo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icin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0 t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e enrich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M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per-N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O-200 *            EXO 1-10 ton*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BRA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59500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USA with Swiss partc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90160" y="1989000"/>
            <a:ext cx="2722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30-5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6000" y="2349360"/>
            <a:ext cx="0" cy="432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30C-A1AD-41F8-BE3F-AD31C36A5839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A5DA7-94D3-49F3-A079-48711971C070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8080" y="304920"/>
            <a:ext cx="7620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Dark Matter Experi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313920" y="1371600"/>
            <a:ext cx="82252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arch for WIMPs by direct detection method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 most valuable mean to solve the Dark Mat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t present several projects in Europe, US, Jap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im at a sensitivity for the spin-in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IMP-nucleon cross section of 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p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urther increase by two orders of magnitu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pb) is conceivable and des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quires detector on the ton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20983800">
            <a:off x="7248240" y="923760"/>
            <a:ext cx="14335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a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E95-D41F-4DE3-B649-B560239031C7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5BDB2-8165-4372-BCC1-6484611E1A87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2360" y="685800"/>
            <a:ext cx="87634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 of current activity in 2 years in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 most promising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at that time a clear demonstration of an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nsitivity in the 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range should be avail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mmon activity across Europ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clear recoil energy calib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perties of neutron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mpact of nuclear form factors or halo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ans of validating a possible sig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 on electron and gamma rejection techniques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541-9E41-45F0-91C0-2EC7355A5AC9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716B0-1BB1-415E-9106-8BB5C6391E67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68360" y="189000"/>
            <a:ext cx="77961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AMA/LIBR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MA-1ton 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l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ES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delweis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SEBUD R&amp;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G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GEX-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nius-T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74160" y="907920"/>
            <a:ext cx="2637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0-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20732400">
            <a:off x="5098680" y="4292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C27-024D-4D3A-9209-2E46B63149D8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C65EE-0C46-4E10-92B3-278F532A4F11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333360"/>
            <a:ext cx="779616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Zeplin-1 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plin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plin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enon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DM 1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DM 10 t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Directiona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ift I, II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Drif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ift 1 to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74160" y="1052640"/>
            <a:ext cx="2637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0-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0732400">
            <a:off x="5961960" y="5516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0732400">
            <a:off x="5817600" y="3860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0732400">
            <a:off x="5746320" y="2276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67640" y="1989000"/>
            <a:ext cx="73080" cy="2087640"/>
          </a:xfrm>
          <a:custGeom>
            <a:avLst/>
            <a:gdLst>
              <a:gd name="textAreaLeft" fmla="*/ 0 w 73080"/>
              <a:gd name="textAreaRight" fmla="*/ 26280 w 730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924"/>
                </a:lnTo>
                <a:cubicBezTo>
                  <a:pt x="10800" y="8824"/>
                  <a:pt x="16200" y="9724"/>
                  <a:pt x="21600" y="9724"/>
                </a:cubicBezTo>
                <a:cubicBezTo>
                  <a:pt x="16200" y="9724"/>
                  <a:pt x="10800" y="10624"/>
                  <a:pt x="10800" y="115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96160" y="474516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artic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ter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f DM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een s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D34-E4B0-4BB7-AB75-9C3C1C190E78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27AF0-5CD7-4052-8E4C-A5C0670515C1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333360"/>
            <a:ext cx="77961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Superheated grains (R&amp;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IMPLE (Lisb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ICASSO (Montreal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23960" y="3284640"/>
            <a:ext cx="5923080" cy="26542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Axion Sear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CAST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VLAS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HERA/LHC magnets?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EEE-A806-44F1-BE74-2FF93A9E08CB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9DEA7-24EB-486C-BF52-D01E4468F62B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47640" y="476280"/>
            <a:ext cx="7056720" cy="511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68560" y="568008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    1985     1990     1995     2000      2005     2010   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9520" y="5475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3440" y="50846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8240" y="3500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9520" y="206064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907920"/>
            <a:ext cx="331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836640"/>
            <a:ext cx="2737080" cy="4680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04000" y="1195560"/>
            <a:ext cx="792360" cy="5047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1771560"/>
            <a:ext cx="0" cy="1656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08720" y="1700280"/>
            <a:ext cx="792000" cy="863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00720" y="2563920"/>
            <a:ext cx="1727280" cy="29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4880" y="3714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ion 2002 (R. Gaitsk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32360" y="2852280"/>
            <a:ext cx="934920" cy="792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-647280" y="281556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ross section (p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9960" y="4457880"/>
            <a:ext cx="421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MP-DM cross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8E5-EA5A-4B49-9EA8-09DB1BD19BE6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12D62-4114-4579-B620-CF5C584CC8A2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4000" y="185400"/>
            <a:ext cx="7775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Gamma Telesc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operating        soon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   afte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ESS               HESS-2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rge Arra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GIC       Magic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hipple </a:t>
            </a:r>
            <a:r>
              <a:rPr b="1" lang="de-DE" sz="2400" spc="-1" strike="noStrike">
                <a:solidFill>
                  <a:srgbClr val="ffff66"/>
                </a:solidFill>
                <a:latin typeface="Arial"/>
              </a:rPr>
              <a:t>|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Verita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GO/Y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AGIL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       G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                               GILDA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83720" y="4292640"/>
            <a:ext cx="2826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2 x 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5940360" y="2781000"/>
            <a:ext cx="1511280" cy="1584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67640" y="1989000"/>
            <a:ext cx="217440" cy="1798920"/>
          </a:xfrm>
          <a:custGeom>
            <a:avLst/>
            <a:gdLst>
              <a:gd name="textAreaLeft" fmla="*/ 0 w 217440"/>
              <a:gd name="textAreaRight" fmla="*/ 78480 w 217440"/>
              <a:gd name="textAreaTop" fmla="*/ 46800 h 1798920"/>
              <a:gd name="textAreaBottom" fmla="*/ 1752120 h 17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2944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96800" y="4365720"/>
            <a:ext cx="27457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price tag  5-12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780000" y="3789000"/>
            <a:ext cx="14256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9AE-85E1-4207-B013-048FB5405F50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DB95C-B2C3-4206-888D-202B61513979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98560" y="1270080"/>
            <a:ext cx="7416720" cy="41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98560" y="335772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98560" y="436572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98560" y="227808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800" y="5591160"/>
            <a:ext cx="75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960    1965    1970    1975    1980    1985    1990    1995    2000   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9056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82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6728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06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9928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20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12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2840" y="3141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2840" y="2133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2840" y="112536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2840" y="422280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67640" y="400680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95640" y="537372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14920" y="177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2781360"/>
            <a:ext cx="1425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379080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14560" y="537372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8360" y="278136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22920" y="314172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3280" y="321480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2560" y="3573360"/>
            <a:ext cx="142920" cy="144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64000" y="537372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67640" y="2709720"/>
            <a:ext cx="142920" cy="144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443880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27640" y="472608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187280" y="3862080"/>
            <a:ext cx="1295640" cy="158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130560" y="1846440"/>
            <a:ext cx="1657440" cy="100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82920" y="2854440"/>
            <a:ext cx="647640" cy="100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788000" y="1269720"/>
            <a:ext cx="136836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340000" y="3646440"/>
            <a:ext cx="1655640" cy="172872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88000" y="3214800"/>
            <a:ext cx="1008000" cy="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995640" y="3285720"/>
            <a:ext cx="719280" cy="36036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020000" y="2781000"/>
            <a:ext cx="718920" cy="7308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796000" y="2854080"/>
            <a:ext cx="1224000" cy="36036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435640" y="4798800"/>
            <a:ext cx="863640" cy="647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020000" y="4078080"/>
            <a:ext cx="718920" cy="431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299280" y="4509720"/>
            <a:ext cx="720720" cy="2890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738920" y="3860280"/>
            <a:ext cx="217800" cy="21780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90160" y="1630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X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97440" y="37180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7c80"/>
                </a:solidFill>
                <a:latin typeface="Arial"/>
              </a:rPr>
              <a:t>MeV-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4520" y="47991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ffff"/>
                </a:solidFill>
                <a:latin typeface="Arial"/>
              </a:rPr>
              <a:t>0.1-100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920" y="333360"/>
            <a:ext cx="83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igh Energy Photon Sky: Source Count vs.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63200" y="5950080"/>
            <a:ext cx="46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Arial"/>
              </a:rPr>
              <a:t>(modified from M. De Naurois, astro-ph/040936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885080" y="378936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14E-E3AB-4DEE-9575-FAADDDC4C3FE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95EDA-294B-4B45-A03F-7534485CE653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333360"/>
            <a:ext cx="689112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Neutrino Telescop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320760" y="1125360"/>
            <a:ext cx="84549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th the aim of constructing a detector of km3 scale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rthern hemisphere, both in view of size an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th IceCube: form a single coherent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llecting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the efforts unde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epare report to ApPEC PRC with following inform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optical properties of water, incl. seasonal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d using the sam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optical background and sed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comparative simulations about impact of dept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ter properties to some benchmark km3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focussing to the central goals of Nu Telesco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ngle design study in the European FP6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w review in one year (summer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20983800">
            <a:off x="7391160" y="549360"/>
            <a:ext cx="14839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l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E92-5FC6-4CD3-B745-052786443EB3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6328F-E38D-425F-AEA2-C29462733B74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640" y="2060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ouble Bet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Dark Matter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Gamma Telesc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Neutrino Telescopes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avitation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Cosmic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476280"/>
            <a:ext cx="6626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Reviewed in 2002-2005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5369400" y="1773360"/>
            <a:ext cx="341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air: Riccardo Barb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511-2597-4BFA-A50E-CA565644FA0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5252C-E7F3-4EC3-8D91-6165FC85601B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50920" y="-3960"/>
            <a:ext cx="889308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High Energy Neutrino Telesc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ikal-NT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T200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(Baikal GVD (2015)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eCube (2010)    HyperCube ?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radio+acou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t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sto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M3 (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tegration of radio and acoustic detection into optical te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eutrino interactions in atmosphere (Auger,EUSO), in the moon (radio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ntennas), .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8880" y="3573360"/>
            <a:ext cx="30610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150-3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787640" y="3068640"/>
            <a:ext cx="1368360" cy="503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508360" y="4005360"/>
            <a:ext cx="647640" cy="43164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C3F9-9F1E-432D-AC67-E89C7390043A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3EF86-81F5-4B7A-9200-7A885E0FE397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55080" cy="5978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05080" y="1052640"/>
            <a:ext cx="10810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421080" y="763560"/>
            <a:ext cx="4632120" cy="1360800"/>
            <a:chOff x="3421080" y="763560"/>
            <a:chExt cx="4632120" cy="1360800"/>
          </a:xfrm>
        </p:grpSpPr>
        <p:sp>
          <p:nvSpPr>
            <p:cNvPr id="364" name=""/>
            <p:cNvSpPr/>
            <p:nvPr/>
          </p:nvSpPr>
          <p:spPr>
            <a:xfrm>
              <a:off x="6086520" y="76356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50160" y="763560"/>
              <a:ext cx="110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G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1080" y="172548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manda, Baik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562840" y="969840"/>
            <a:ext cx="5912640" cy="1416600"/>
            <a:chOff x="2562840" y="969840"/>
            <a:chExt cx="5912640" cy="1416600"/>
          </a:xfrm>
        </p:grpSpPr>
        <p:sp>
          <p:nvSpPr>
            <p:cNvPr id="368" name=""/>
            <p:cNvSpPr/>
            <p:nvPr/>
          </p:nvSpPr>
          <p:spPr>
            <a:xfrm>
              <a:off x="3324240" y="969840"/>
              <a:ext cx="5151240" cy="1290600"/>
            </a:xfrm>
            <a:custGeom>
              <a:avLst/>
              <a:gdLst/>
              <a:ahLst/>
              <a:rect l="l" t="t" r="r" b="b"/>
              <a:pathLst>
                <a:path w="3245" h="813">
                  <a:moveTo>
                    <a:pt x="0" y="804"/>
                  </a:moveTo>
                  <a:cubicBezTo>
                    <a:pt x="76" y="805"/>
                    <a:pt x="323" y="813"/>
                    <a:pt x="457" y="813"/>
                  </a:cubicBezTo>
                  <a:cubicBezTo>
                    <a:pt x="591" y="813"/>
                    <a:pt x="690" y="810"/>
                    <a:pt x="804" y="804"/>
                  </a:cubicBezTo>
                  <a:cubicBezTo>
                    <a:pt x="918" y="798"/>
                    <a:pt x="1032" y="794"/>
                    <a:pt x="1142" y="777"/>
                  </a:cubicBezTo>
                  <a:cubicBezTo>
                    <a:pt x="1252" y="760"/>
                    <a:pt x="1383" y="728"/>
                    <a:pt x="1462" y="704"/>
                  </a:cubicBezTo>
                  <a:cubicBezTo>
                    <a:pt x="1541" y="680"/>
                    <a:pt x="1575" y="661"/>
                    <a:pt x="1618" y="631"/>
                  </a:cubicBezTo>
                  <a:cubicBezTo>
                    <a:pt x="1661" y="601"/>
                    <a:pt x="1689" y="559"/>
                    <a:pt x="1718" y="521"/>
                  </a:cubicBezTo>
                  <a:cubicBezTo>
                    <a:pt x="1747" y="483"/>
                    <a:pt x="1769" y="448"/>
                    <a:pt x="1792" y="402"/>
                  </a:cubicBezTo>
                  <a:cubicBezTo>
                    <a:pt x="1815" y="356"/>
                    <a:pt x="1829" y="287"/>
                    <a:pt x="1856" y="247"/>
                  </a:cubicBezTo>
                  <a:cubicBezTo>
                    <a:pt x="1883" y="207"/>
                    <a:pt x="1913" y="176"/>
                    <a:pt x="1956" y="164"/>
                  </a:cubicBezTo>
                  <a:cubicBezTo>
                    <a:pt x="1999" y="152"/>
                    <a:pt x="2056" y="164"/>
                    <a:pt x="2112" y="173"/>
                  </a:cubicBezTo>
                  <a:cubicBezTo>
                    <a:pt x="2168" y="182"/>
                    <a:pt x="2224" y="213"/>
                    <a:pt x="2294" y="219"/>
                  </a:cubicBezTo>
                  <a:cubicBezTo>
                    <a:pt x="2364" y="225"/>
                    <a:pt x="2447" y="218"/>
                    <a:pt x="2532" y="210"/>
                  </a:cubicBezTo>
                  <a:cubicBezTo>
                    <a:pt x="2617" y="202"/>
                    <a:pt x="2721" y="191"/>
                    <a:pt x="2806" y="173"/>
                  </a:cubicBezTo>
                  <a:cubicBezTo>
                    <a:pt x="2891" y="155"/>
                    <a:pt x="2971" y="129"/>
                    <a:pt x="3044" y="100"/>
                  </a:cubicBezTo>
                  <a:cubicBezTo>
                    <a:pt x="3117" y="71"/>
                    <a:pt x="3203" y="21"/>
                    <a:pt x="3245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62840" y="198756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210480" y="2995560"/>
            <a:ext cx="5250960" cy="1084680"/>
            <a:chOff x="3210480" y="2995560"/>
            <a:chExt cx="5250960" cy="1084680"/>
          </a:xfrm>
        </p:grpSpPr>
        <p:sp>
          <p:nvSpPr>
            <p:cNvPr id="371" name=""/>
            <p:cNvSpPr/>
            <p:nvPr/>
          </p:nvSpPr>
          <p:spPr>
            <a:xfrm>
              <a:off x="3962520" y="2995560"/>
              <a:ext cx="4498920" cy="849240"/>
            </a:xfrm>
            <a:custGeom>
              <a:avLst/>
              <a:gdLst/>
              <a:ahLst/>
              <a:rect l="l" t="t" r="r" b="b"/>
              <a:pathLst>
                <a:path w="2834" h="535">
                  <a:moveTo>
                    <a:pt x="0" y="531"/>
                  </a:moveTo>
                  <a:cubicBezTo>
                    <a:pt x="81" y="529"/>
                    <a:pt x="335" y="535"/>
                    <a:pt x="484" y="521"/>
                  </a:cubicBezTo>
                  <a:cubicBezTo>
                    <a:pt x="633" y="507"/>
                    <a:pt x="786" y="483"/>
                    <a:pt x="896" y="448"/>
                  </a:cubicBezTo>
                  <a:cubicBezTo>
                    <a:pt x="1006" y="413"/>
                    <a:pt x="1078" y="352"/>
                    <a:pt x="1143" y="311"/>
                  </a:cubicBezTo>
                  <a:cubicBezTo>
                    <a:pt x="1208" y="270"/>
                    <a:pt x="1231" y="206"/>
                    <a:pt x="1289" y="201"/>
                  </a:cubicBezTo>
                  <a:cubicBezTo>
                    <a:pt x="1347" y="196"/>
                    <a:pt x="1425" y="271"/>
                    <a:pt x="1490" y="283"/>
                  </a:cubicBezTo>
                  <a:cubicBezTo>
                    <a:pt x="1555" y="295"/>
                    <a:pt x="1613" y="266"/>
                    <a:pt x="1682" y="274"/>
                  </a:cubicBezTo>
                  <a:cubicBezTo>
                    <a:pt x="1751" y="282"/>
                    <a:pt x="1820" y="324"/>
                    <a:pt x="1902" y="329"/>
                  </a:cubicBezTo>
                  <a:cubicBezTo>
                    <a:pt x="1984" y="334"/>
                    <a:pt x="2095" y="319"/>
                    <a:pt x="2176" y="302"/>
                  </a:cubicBezTo>
                  <a:cubicBezTo>
                    <a:pt x="2257" y="285"/>
                    <a:pt x="2325" y="253"/>
                    <a:pt x="2386" y="229"/>
                  </a:cubicBezTo>
                  <a:cubicBezTo>
                    <a:pt x="2447" y="205"/>
                    <a:pt x="2493" y="179"/>
                    <a:pt x="2542" y="155"/>
                  </a:cubicBezTo>
                  <a:cubicBezTo>
                    <a:pt x="2591" y="131"/>
                    <a:pt x="2630" y="108"/>
                    <a:pt x="2679" y="82"/>
                  </a:cubicBezTo>
                  <a:cubicBezTo>
                    <a:pt x="2728" y="56"/>
                    <a:pt x="2802" y="17"/>
                    <a:pt x="2834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10480" y="368136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946120" y="2995560"/>
            <a:ext cx="1369440" cy="440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UGER 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de-DE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7800" y="2708280"/>
            <a:ext cx="81792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429000"/>
            <a:ext cx="194436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manda,Antares, Baikal, Ne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73520" y="3645000"/>
            <a:ext cx="2997360" cy="1047600"/>
          </a:xfrm>
          <a:custGeom>
            <a:avLst/>
            <a:gdLst/>
            <a:ahLst/>
            <a:rect l="l" t="t" r="r" b="b"/>
            <a:pathLst>
              <a:path w="1888" h="660">
                <a:moveTo>
                  <a:pt x="0" y="657"/>
                </a:moveTo>
                <a:cubicBezTo>
                  <a:pt x="27" y="655"/>
                  <a:pt x="97" y="658"/>
                  <a:pt x="155" y="657"/>
                </a:cubicBezTo>
                <a:cubicBezTo>
                  <a:pt x="213" y="656"/>
                  <a:pt x="278" y="660"/>
                  <a:pt x="347" y="648"/>
                </a:cubicBezTo>
                <a:cubicBezTo>
                  <a:pt x="416" y="636"/>
                  <a:pt x="500" y="614"/>
                  <a:pt x="567" y="584"/>
                </a:cubicBezTo>
                <a:cubicBezTo>
                  <a:pt x="634" y="554"/>
                  <a:pt x="701" y="495"/>
                  <a:pt x="750" y="465"/>
                </a:cubicBezTo>
                <a:cubicBezTo>
                  <a:pt x="799" y="435"/>
                  <a:pt x="829" y="413"/>
                  <a:pt x="859" y="401"/>
                </a:cubicBezTo>
                <a:cubicBezTo>
                  <a:pt x="889" y="389"/>
                  <a:pt x="892" y="386"/>
                  <a:pt x="932" y="392"/>
                </a:cubicBezTo>
                <a:cubicBezTo>
                  <a:pt x="972" y="398"/>
                  <a:pt x="1041" y="430"/>
                  <a:pt x="1097" y="438"/>
                </a:cubicBezTo>
                <a:cubicBezTo>
                  <a:pt x="1153" y="446"/>
                  <a:pt x="1203" y="451"/>
                  <a:pt x="1271" y="438"/>
                </a:cubicBezTo>
                <a:cubicBezTo>
                  <a:pt x="1339" y="425"/>
                  <a:pt x="1445" y="385"/>
                  <a:pt x="1504" y="360"/>
                </a:cubicBezTo>
                <a:cubicBezTo>
                  <a:pt x="1563" y="335"/>
                  <a:pt x="1591" y="311"/>
                  <a:pt x="1624" y="288"/>
                </a:cubicBezTo>
                <a:cubicBezTo>
                  <a:pt x="1657" y="265"/>
                  <a:pt x="1676" y="251"/>
                  <a:pt x="1704" y="224"/>
                </a:cubicBezTo>
                <a:cubicBezTo>
                  <a:pt x="1732" y="197"/>
                  <a:pt x="1761" y="165"/>
                  <a:pt x="1792" y="128"/>
                </a:cubicBezTo>
                <a:cubicBezTo>
                  <a:pt x="1823" y="91"/>
                  <a:pt x="1868" y="27"/>
                  <a:pt x="1888" y="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81440" y="4497480"/>
            <a:ext cx="8762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61080" y="4869000"/>
            <a:ext cx="8762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7440" y="4508640"/>
            <a:ext cx="1584360" cy="673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 new tech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850120" y="1987560"/>
            <a:ext cx="5625360" cy="1398960"/>
            <a:chOff x="2850120" y="1987560"/>
            <a:chExt cx="5625360" cy="1398960"/>
          </a:xfrm>
        </p:grpSpPr>
        <p:sp>
          <p:nvSpPr>
            <p:cNvPr id="381" name=""/>
            <p:cNvSpPr/>
            <p:nvPr/>
          </p:nvSpPr>
          <p:spPr>
            <a:xfrm>
              <a:off x="2850120" y="298764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03240" y="1987560"/>
              <a:ext cx="163620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E  G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12960" y="2333520"/>
              <a:ext cx="4862520" cy="871560"/>
            </a:xfrm>
            <a:custGeom>
              <a:avLst/>
              <a:gdLst/>
              <a:ahLst/>
              <a:rect l="l" t="t" r="r" b="b"/>
              <a:pathLst>
                <a:path w="3063" h="549">
                  <a:moveTo>
                    <a:pt x="0" y="549"/>
                  </a:moveTo>
                  <a:cubicBezTo>
                    <a:pt x="76" y="546"/>
                    <a:pt x="301" y="544"/>
                    <a:pt x="458" y="530"/>
                  </a:cubicBezTo>
                  <a:cubicBezTo>
                    <a:pt x="615" y="516"/>
                    <a:pt x="799" y="501"/>
                    <a:pt x="942" y="466"/>
                  </a:cubicBezTo>
                  <a:cubicBezTo>
                    <a:pt x="1085" y="431"/>
                    <a:pt x="1201" y="381"/>
                    <a:pt x="1317" y="320"/>
                  </a:cubicBezTo>
                  <a:cubicBezTo>
                    <a:pt x="1433" y="259"/>
                    <a:pt x="1524" y="132"/>
                    <a:pt x="1637" y="101"/>
                  </a:cubicBezTo>
                  <a:cubicBezTo>
                    <a:pt x="1750" y="70"/>
                    <a:pt x="1881" y="131"/>
                    <a:pt x="1994" y="137"/>
                  </a:cubicBezTo>
                  <a:cubicBezTo>
                    <a:pt x="2107" y="143"/>
                    <a:pt x="2215" y="143"/>
                    <a:pt x="2314" y="137"/>
                  </a:cubicBezTo>
                  <a:cubicBezTo>
                    <a:pt x="2413" y="131"/>
                    <a:pt x="2503" y="113"/>
                    <a:pt x="2588" y="101"/>
                  </a:cubicBezTo>
                  <a:cubicBezTo>
                    <a:pt x="2673" y="89"/>
                    <a:pt x="2747" y="81"/>
                    <a:pt x="2826" y="64"/>
                  </a:cubicBezTo>
                  <a:cubicBezTo>
                    <a:pt x="2905" y="47"/>
                    <a:pt x="3014" y="13"/>
                    <a:pt x="3063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95280" y="189000"/>
            <a:ext cx="8499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chieved and expected sensitivities to diffuse flu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2708280"/>
            <a:ext cx="1224000" cy="289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1F3-6147-4F33-8A22-ABA62339B2B9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32D77-5C3B-4C0A-8ED7-F6CC75C32702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52360" y="765000"/>
            <a:ext cx="7056720" cy="511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7440" y="587700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    1985     1990     1995     2000      2005     2010   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240" y="83664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8160" y="53737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2960" y="3789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4240" y="2349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81440" y="1484280"/>
            <a:ext cx="1366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48000" y="1484280"/>
            <a:ext cx="79236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40360" y="2349360"/>
            <a:ext cx="792000" cy="7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32360" y="3068640"/>
            <a:ext cx="1440000" cy="1440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080" y="90792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92360" y="907920"/>
            <a:ext cx="289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27920" y="4651200"/>
            <a:ext cx="1941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-1000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67280" y="1197000"/>
            <a:ext cx="1009440" cy="2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1413000"/>
            <a:ext cx="1079640" cy="107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56360" y="2492280"/>
            <a:ext cx="151128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19200" y="3571920"/>
            <a:ext cx="100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 E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979560"/>
            <a:ext cx="62150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man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jus  Macro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ikal/Amand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eCube/K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79000" y="906480"/>
            <a:ext cx="347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e   AGAS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e  G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ita, Au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360" y="18720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Flux * E²  (GeV/ cm² sec 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01120" y="4581360"/>
            <a:ext cx="494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nsitivity to HE diff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eutrino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D46-18D3-4A6A-96F4-A84EA6907381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6FB69-EF13-4D08-82F4-F18A3BA91DE5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-72720" y="106560"/>
            <a:ext cx="8867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osmic Ra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R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REAM                                ballo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TIC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MELA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b) Towards the end of the galactic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scade-Grande  |2008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8..2010|  IceTop/IceCube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6..2008|  Tunk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80000" y="206064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3080" y="2997360"/>
            <a:ext cx="2393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~20 M€, 2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E946-6CFF-4CDC-8C3D-E2165FF8C812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3912E-DFE6-40D9-9CE5-8926907C0058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79640" y="289440"/>
            <a:ext cx="7953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osmic Ra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c) High and Ultra-high en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ger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Auger North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USO (&gt; 2015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sterbork (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d) New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PES, Coda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FA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80000" y="206064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2276640"/>
            <a:ext cx="36734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~ 50 M€ per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88000" y="4653000"/>
            <a:ext cx="25923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125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292720" y="3860280"/>
            <a:ext cx="0" cy="792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77C5-71DC-4E75-B706-325620CCE9C5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4C5B2-4708-4654-B94C-BD00ACDB76BB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Integrated Aper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55320" y="997200"/>
            <a:ext cx="7763400" cy="5468040"/>
            <a:chOff x="355320" y="997200"/>
            <a:chExt cx="7763400" cy="5468040"/>
          </a:xfrm>
        </p:grpSpPr>
        <p:sp>
          <p:nvSpPr>
            <p:cNvPr id="418" name=""/>
            <p:cNvSpPr/>
            <p:nvPr/>
          </p:nvSpPr>
          <p:spPr>
            <a:xfrm>
              <a:off x="1368360" y="1093680"/>
              <a:ext cx="6518520" cy="472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68360" y="463608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68360" y="345564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68360" y="227520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68360" y="109368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9968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3244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6232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9328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460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5592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8724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68360" y="1093680"/>
              <a:ext cx="6518520" cy="472284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6836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581652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463608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15440" y="345564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5440" y="227520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15440" y="109368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68360" y="581652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36836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29968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23244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16232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09328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02460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95592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88724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54480" y="5460840"/>
              <a:ext cx="187200" cy="355680"/>
            </a:xfrm>
            <a:custGeom>
              <a:avLst/>
              <a:gdLst/>
              <a:ahLst/>
              <a:rect l="l" t="t" r="r" b="b"/>
              <a:pathLst>
                <a:path w="248" h="477">
                  <a:moveTo>
                    <a:pt x="0" y="477"/>
                  </a:moveTo>
                  <a:lnTo>
                    <a:pt x="31" y="417"/>
                  </a:lnTo>
                  <a:lnTo>
                    <a:pt x="62" y="353"/>
                  </a:lnTo>
                  <a:lnTo>
                    <a:pt x="93" y="290"/>
                  </a:lnTo>
                  <a:lnTo>
                    <a:pt x="124" y="226"/>
                  </a:lnTo>
                  <a:lnTo>
                    <a:pt x="155" y="165"/>
                  </a:lnTo>
                  <a:lnTo>
                    <a:pt x="186" y="106"/>
                  </a:lnTo>
                  <a:lnTo>
                    <a:pt x="202" y="76"/>
                  </a:lnTo>
                  <a:lnTo>
                    <a:pt x="217" y="50"/>
                  </a:lnTo>
                  <a:lnTo>
                    <a:pt x="233" y="25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1680" y="5252400"/>
              <a:ext cx="185760" cy="20808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15" y="256"/>
                  </a:lnTo>
                  <a:lnTo>
                    <a:pt x="31" y="234"/>
                  </a:lnTo>
                  <a:lnTo>
                    <a:pt x="62" y="194"/>
                  </a:lnTo>
                  <a:lnTo>
                    <a:pt x="93" y="156"/>
                  </a:lnTo>
                  <a:lnTo>
                    <a:pt x="124" y="122"/>
                  </a:lnTo>
                  <a:lnTo>
                    <a:pt x="153" y="89"/>
                  </a:lnTo>
                  <a:lnTo>
                    <a:pt x="184" y="5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27800" y="5106600"/>
              <a:ext cx="186120" cy="145800"/>
            </a:xfrm>
            <a:custGeom>
              <a:avLst/>
              <a:gdLst/>
              <a:ahLst/>
              <a:rect l="l" t="t" r="r" b="b"/>
              <a:pathLst>
                <a:path w="246" h="198">
                  <a:moveTo>
                    <a:pt x="0" y="198"/>
                  </a:moveTo>
                  <a:lnTo>
                    <a:pt x="31" y="168"/>
                  </a:lnTo>
                  <a:lnTo>
                    <a:pt x="62" y="142"/>
                  </a:lnTo>
                  <a:lnTo>
                    <a:pt x="93" y="115"/>
                  </a:lnTo>
                  <a:lnTo>
                    <a:pt x="122" y="92"/>
                  </a:lnTo>
                  <a:lnTo>
                    <a:pt x="184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13920" y="4990680"/>
              <a:ext cx="185760" cy="115920"/>
            </a:xfrm>
            <a:custGeom>
              <a:avLst/>
              <a:gdLst/>
              <a:ahLst/>
              <a:rect l="l" t="t" r="r" b="b"/>
              <a:pathLst>
                <a:path w="246" h="155">
                  <a:moveTo>
                    <a:pt x="0" y="155"/>
                  </a:moveTo>
                  <a:lnTo>
                    <a:pt x="62" y="112"/>
                  </a:lnTo>
                  <a:lnTo>
                    <a:pt x="122" y="73"/>
                  </a:lnTo>
                  <a:lnTo>
                    <a:pt x="184" y="3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99680" y="4898160"/>
              <a:ext cx="187200" cy="92160"/>
            </a:xfrm>
            <a:custGeom>
              <a:avLst/>
              <a:gdLst/>
              <a:ahLst/>
              <a:rect l="l" t="t" r="r" b="b"/>
              <a:pathLst>
                <a:path w="247" h="125">
                  <a:moveTo>
                    <a:pt x="0" y="125"/>
                  </a:moveTo>
                  <a:lnTo>
                    <a:pt x="62" y="92"/>
                  </a:lnTo>
                  <a:lnTo>
                    <a:pt x="124" y="59"/>
                  </a:lnTo>
                  <a:lnTo>
                    <a:pt x="186" y="30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87240" y="4819320"/>
              <a:ext cx="185760" cy="784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4" y="5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73000" y="4750920"/>
              <a:ext cx="186120" cy="68400"/>
            </a:xfrm>
            <a:custGeom>
              <a:avLst/>
              <a:gdLst/>
              <a:ahLst/>
              <a:rect l="l" t="t" r="r" b="b"/>
              <a:pathLst>
                <a:path w="246" h="91">
                  <a:moveTo>
                    <a:pt x="0" y="91"/>
                  </a:moveTo>
                  <a:lnTo>
                    <a:pt x="62" y="68"/>
                  </a:lnTo>
                  <a:lnTo>
                    <a:pt x="123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59120" y="4689720"/>
              <a:ext cx="185760" cy="60840"/>
            </a:xfrm>
            <a:custGeom>
              <a:avLst/>
              <a:gdLst/>
              <a:ahLst/>
              <a:rect l="l" t="t" r="r" b="b"/>
              <a:pathLst>
                <a:path w="247" h="81">
                  <a:moveTo>
                    <a:pt x="0" y="81"/>
                  </a:moveTo>
                  <a:lnTo>
                    <a:pt x="123" y="40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4880" y="4636080"/>
              <a:ext cx="187200" cy="53640"/>
            </a:xfrm>
            <a:custGeom>
              <a:avLst/>
              <a:gdLst/>
              <a:ahLst/>
              <a:rect l="l" t="t" r="r" b="b"/>
              <a:pathLst>
                <a:path w="247" h="74">
                  <a:moveTo>
                    <a:pt x="0" y="74"/>
                  </a:moveTo>
                  <a:lnTo>
                    <a:pt x="123" y="3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87240" y="4990680"/>
              <a:ext cx="185760" cy="356760"/>
            </a:xfrm>
            <a:custGeom>
              <a:avLst/>
              <a:gdLst/>
              <a:ahLst/>
              <a:rect l="l" t="t" r="r" b="b"/>
              <a:pathLst>
                <a:path w="246" h="479">
                  <a:moveTo>
                    <a:pt x="0" y="479"/>
                  </a:moveTo>
                  <a:lnTo>
                    <a:pt x="31" y="417"/>
                  </a:lnTo>
                  <a:lnTo>
                    <a:pt x="62" y="356"/>
                  </a:lnTo>
                  <a:lnTo>
                    <a:pt x="93" y="291"/>
                  </a:lnTo>
                  <a:lnTo>
                    <a:pt x="123" y="227"/>
                  </a:lnTo>
                  <a:lnTo>
                    <a:pt x="154" y="166"/>
                  </a:lnTo>
                  <a:lnTo>
                    <a:pt x="185" y="107"/>
                  </a:lnTo>
                  <a:lnTo>
                    <a:pt x="201" y="79"/>
                  </a:lnTo>
                  <a:lnTo>
                    <a:pt x="216" y="51"/>
                  </a:lnTo>
                  <a:lnTo>
                    <a:pt x="232" y="2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73000" y="4783680"/>
              <a:ext cx="186120" cy="206640"/>
            </a:xfrm>
            <a:custGeom>
              <a:avLst/>
              <a:gdLst/>
              <a:ahLst/>
              <a:rect l="l" t="t" r="r" b="b"/>
              <a:pathLst>
                <a:path w="246" h="278">
                  <a:moveTo>
                    <a:pt x="0" y="278"/>
                  </a:moveTo>
                  <a:lnTo>
                    <a:pt x="15" y="255"/>
                  </a:lnTo>
                  <a:lnTo>
                    <a:pt x="31" y="234"/>
                  </a:lnTo>
                  <a:lnTo>
                    <a:pt x="62" y="193"/>
                  </a:lnTo>
                  <a:lnTo>
                    <a:pt x="93" y="156"/>
                  </a:lnTo>
                  <a:lnTo>
                    <a:pt x="123" y="122"/>
                  </a:lnTo>
                  <a:lnTo>
                    <a:pt x="154" y="90"/>
                  </a:lnTo>
                  <a:lnTo>
                    <a:pt x="185" y="5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59120" y="4636080"/>
              <a:ext cx="185760" cy="14724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0" y="199"/>
                  </a:moveTo>
                  <a:lnTo>
                    <a:pt x="31" y="170"/>
                  </a:lnTo>
                  <a:lnTo>
                    <a:pt x="62" y="143"/>
                  </a:lnTo>
                  <a:lnTo>
                    <a:pt x="93" y="117"/>
                  </a:lnTo>
                  <a:lnTo>
                    <a:pt x="123" y="91"/>
                  </a:lnTo>
                  <a:lnTo>
                    <a:pt x="185" y="44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44880" y="4521600"/>
              <a:ext cx="187200" cy="114120"/>
            </a:xfrm>
            <a:custGeom>
              <a:avLst/>
              <a:gdLst/>
              <a:ahLst/>
              <a:rect l="l" t="t" r="r" b="b"/>
              <a:pathLst>
                <a:path w="247" h="153">
                  <a:moveTo>
                    <a:pt x="0" y="153"/>
                  </a:moveTo>
                  <a:lnTo>
                    <a:pt x="61" y="110"/>
                  </a:lnTo>
                  <a:lnTo>
                    <a:pt x="123" y="72"/>
                  </a:lnTo>
                  <a:lnTo>
                    <a:pt x="185" y="35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32440" y="4428000"/>
              <a:ext cx="185760" cy="93600"/>
            </a:xfrm>
            <a:custGeom>
              <a:avLst/>
              <a:gdLst/>
              <a:ahLst/>
              <a:rect l="l" t="t" r="r" b="b"/>
              <a:pathLst>
                <a:path w="246" h="125">
                  <a:moveTo>
                    <a:pt x="0" y="125"/>
                  </a:moveTo>
                  <a:lnTo>
                    <a:pt x="62" y="91"/>
                  </a:lnTo>
                  <a:lnTo>
                    <a:pt x="124" y="59"/>
                  </a:lnTo>
                  <a:lnTo>
                    <a:pt x="184" y="2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18200" y="4348800"/>
              <a:ext cx="186120" cy="7884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2" y="5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04320" y="4280400"/>
              <a:ext cx="185760" cy="68400"/>
            </a:xfrm>
            <a:custGeom>
              <a:avLst/>
              <a:gdLst/>
              <a:ahLst/>
              <a:rect l="l" t="t" r="r" b="b"/>
              <a:pathLst>
                <a:path w="246" h="93">
                  <a:moveTo>
                    <a:pt x="0" y="93"/>
                  </a:moveTo>
                  <a:lnTo>
                    <a:pt x="122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90080" y="4219560"/>
              <a:ext cx="186120" cy="60480"/>
            </a:xfrm>
            <a:custGeom>
              <a:avLst/>
              <a:gdLst/>
              <a:ahLst/>
              <a:rect l="l" t="t" r="r" b="b"/>
              <a:pathLst>
                <a:path w="248" h="81">
                  <a:moveTo>
                    <a:pt x="0" y="81"/>
                  </a:moveTo>
                  <a:lnTo>
                    <a:pt x="124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76200" y="4165920"/>
              <a:ext cx="185760" cy="5364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0" y="72"/>
                  </a:moveTo>
                  <a:lnTo>
                    <a:pt x="123" y="3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62320" y="4116600"/>
              <a:ext cx="185760" cy="48960"/>
            </a:xfrm>
            <a:custGeom>
              <a:avLst/>
              <a:gdLst/>
              <a:ahLst/>
              <a:rect l="l" t="t" r="r" b="b"/>
              <a:pathLst>
                <a:path w="246" h="67">
                  <a:moveTo>
                    <a:pt x="0" y="67"/>
                  </a:moveTo>
                  <a:lnTo>
                    <a:pt x="122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8080" y="4073400"/>
              <a:ext cx="186120" cy="43200"/>
            </a:xfrm>
            <a:custGeom>
              <a:avLst/>
              <a:gdLst/>
              <a:ahLst/>
              <a:rect l="l" t="t" r="r" b="b"/>
              <a:pathLst>
                <a:path w="246" h="59">
                  <a:moveTo>
                    <a:pt x="0" y="59"/>
                  </a:moveTo>
                  <a:lnTo>
                    <a:pt x="122" y="3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34200" y="4032000"/>
              <a:ext cx="187200" cy="41400"/>
            </a:xfrm>
            <a:custGeom>
              <a:avLst/>
              <a:gdLst/>
              <a:ahLst/>
              <a:rect l="l" t="t" r="r" b="b"/>
              <a:pathLst>
                <a:path w="247" h="56">
                  <a:moveTo>
                    <a:pt x="0" y="56"/>
                  </a:moveTo>
                  <a:lnTo>
                    <a:pt x="123" y="28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1760" y="3993120"/>
              <a:ext cx="185760" cy="38520"/>
            </a:xfrm>
            <a:custGeom>
              <a:avLst/>
              <a:gdLst/>
              <a:ahLst/>
              <a:rect l="l" t="t" r="r" b="b"/>
              <a:pathLst>
                <a:path w="246" h="51">
                  <a:moveTo>
                    <a:pt x="0" y="51"/>
                  </a:moveTo>
                  <a:lnTo>
                    <a:pt x="124" y="2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07520" y="3957120"/>
              <a:ext cx="185760" cy="35640"/>
            </a:xfrm>
            <a:custGeom>
              <a:avLst/>
              <a:gdLst/>
              <a:ahLst/>
              <a:rect l="l" t="t" r="r" b="b"/>
              <a:pathLst>
                <a:path w="246" h="47">
                  <a:moveTo>
                    <a:pt x="0" y="47"/>
                  </a:moveTo>
                  <a:lnTo>
                    <a:pt x="122" y="2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90080" y="4750920"/>
              <a:ext cx="186120" cy="501480"/>
            </a:xfrm>
            <a:custGeom>
              <a:avLst/>
              <a:gdLst/>
              <a:ahLst/>
              <a:rect l="l" t="t" r="r" b="b"/>
              <a:pathLst>
                <a:path w="248" h="675">
                  <a:moveTo>
                    <a:pt x="0" y="675"/>
                  </a:moveTo>
                  <a:lnTo>
                    <a:pt x="31" y="589"/>
                  </a:lnTo>
                  <a:lnTo>
                    <a:pt x="62" y="504"/>
                  </a:lnTo>
                  <a:lnTo>
                    <a:pt x="124" y="330"/>
                  </a:lnTo>
                  <a:lnTo>
                    <a:pt x="155" y="244"/>
                  </a:lnTo>
                  <a:lnTo>
                    <a:pt x="186" y="160"/>
                  </a:lnTo>
                  <a:lnTo>
                    <a:pt x="217" y="79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76200" y="4334040"/>
              <a:ext cx="185760" cy="416520"/>
            </a:xfrm>
            <a:custGeom>
              <a:avLst/>
              <a:gdLst/>
              <a:ahLst/>
              <a:rect l="l" t="t" r="r" b="b"/>
              <a:pathLst>
                <a:path w="246" h="560">
                  <a:moveTo>
                    <a:pt x="0" y="560"/>
                  </a:moveTo>
                  <a:lnTo>
                    <a:pt x="31" y="483"/>
                  </a:lnTo>
                  <a:lnTo>
                    <a:pt x="61" y="405"/>
                  </a:lnTo>
                  <a:lnTo>
                    <a:pt x="92" y="330"/>
                  </a:lnTo>
                  <a:lnTo>
                    <a:pt x="123" y="256"/>
                  </a:lnTo>
                  <a:lnTo>
                    <a:pt x="153" y="186"/>
                  </a:lnTo>
                  <a:lnTo>
                    <a:pt x="169" y="152"/>
                  </a:lnTo>
                  <a:lnTo>
                    <a:pt x="184" y="119"/>
                  </a:lnTo>
                  <a:lnTo>
                    <a:pt x="200" y="87"/>
                  </a:lnTo>
                  <a:lnTo>
                    <a:pt x="215" y="57"/>
                  </a:lnTo>
                  <a:lnTo>
                    <a:pt x="231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62320" y="4107960"/>
              <a:ext cx="185760" cy="226080"/>
            </a:xfrm>
            <a:custGeom>
              <a:avLst/>
              <a:gdLst/>
              <a:ahLst/>
              <a:rect l="l" t="t" r="r" b="b"/>
              <a:pathLst>
                <a:path w="246" h="304">
                  <a:moveTo>
                    <a:pt x="0" y="304"/>
                  </a:moveTo>
                  <a:lnTo>
                    <a:pt x="14" y="277"/>
                  </a:lnTo>
                  <a:lnTo>
                    <a:pt x="31" y="254"/>
                  </a:lnTo>
                  <a:lnTo>
                    <a:pt x="45" y="230"/>
                  </a:lnTo>
                  <a:lnTo>
                    <a:pt x="61" y="208"/>
                  </a:lnTo>
                  <a:lnTo>
                    <a:pt x="76" y="188"/>
                  </a:lnTo>
                  <a:lnTo>
                    <a:pt x="92" y="167"/>
                  </a:lnTo>
                  <a:lnTo>
                    <a:pt x="122" y="130"/>
                  </a:lnTo>
                  <a:lnTo>
                    <a:pt x="153" y="96"/>
                  </a:lnTo>
                  <a:lnTo>
                    <a:pt x="184" y="6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8080" y="3951720"/>
              <a:ext cx="186120" cy="156240"/>
            </a:xfrm>
            <a:custGeom>
              <a:avLst/>
              <a:gdLst/>
              <a:ahLst/>
              <a:rect l="l" t="t" r="r" b="b"/>
              <a:pathLst>
                <a:path w="246" h="210">
                  <a:moveTo>
                    <a:pt x="0" y="210"/>
                  </a:moveTo>
                  <a:lnTo>
                    <a:pt x="31" y="180"/>
                  </a:lnTo>
                  <a:lnTo>
                    <a:pt x="61" y="150"/>
                  </a:lnTo>
                  <a:lnTo>
                    <a:pt x="92" y="122"/>
                  </a:lnTo>
                  <a:lnTo>
                    <a:pt x="122" y="96"/>
                  </a:lnTo>
                  <a:lnTo>
                    <a:pt x="153" y="70"/>
                  </a:lnTo>
                  <a:lnTo>
                    <a:pt x="184" y="4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34200" y="3832560"/>
              <a:ext cx="187200" cy="118800"/>
            </a:xfrm>
            <a:custGeom>
              <a:avLst/>
              <a:gdLst/>
              <a:ahLst/>
              <a:rect l="l" t="t" r="r" b="b"/>
              <a:pathLst>
                <a:path w="247" h="161">
                  <a:moveTo>
                    <a:pt x="0" y="161"/>
                  </a:moveTo>
                  <a:lnTo>
                    <a:pt x="62" y="117"/>
                  </a:lnTo>
                  <a:lnTo>
                    <a:pt x="123" y="75"/>
                  </a:lnTo>
                  <a:lnTo>
                    <a:pt x="185" y="3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21760" y="3734280"/>
              <a:ext cx="185760" cy="97920"/>
            </a:xfrm>
            <a:custGeom>
              <a:avLst/>
              <a:gdLst/>
              <a:ahLst/>
              <a:rect l="l" t="t" r="r" b="b"/>
              <a:pathLst>
                <a:path w="246" h="131">
                  <a:moveTo>
                    <a:pt x="0" y="131"/>
                  </a:moveTo>
                  <a:lnTo>
                    <a:pt x="62" y="96"/>
                  </a:lnTo>
                  <a:lnTo>
                    <a:pt x="124" y="62"/>
                  </a:lnTo>
                  <a:lnTo>
                    <a:pt x="18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07520" y="3654000"/>
              <a:ext cx="185760" cy="80280"/>
            </a:xfrm>
            <a:custGeom>
              <a:avLst/>
              <a:gdLst/>
              <a:ahLst/>
              <a:rect l="l" t="t" r="r" b="b"/>
              <a:pathLst>
                <a:path w="246" h="109">
                  <a:moveTo>
                    <a:pt x="0" y="109"/>
                  </a:moveTo>
                  <a:lnTo>
                    <a:pt x="62" y="80"/>
                  </a:lnTo>
                  <a:lnTo>
                    <a:pt x="122" y="52"/>
                  </a:lnTo>
                  <a:lnTo>
                    <a:pt x="184" y="2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93280" y="3582360"/>
              <a:ext cx="186120" cy="71280"/>
            </a:xfrm>
            <a:custGeom>
              <a:avLst/>
              <a:gdLst/>
              <a:ahLst/>
              <a:rect l="l" t="t" r="r" b="b"/>
              <a:pathLst>
                <a:path w="246" h="94">
                  <a:moveTo>
                    <a:pt x="0" y="94"/>
                  </a:moveTo>
                  <a:lnTo>
                    <a:pt x="62" y="69"/>
                  </a:lnTo>
                  <a:lnTo>
                    <a:pt x="122" y="4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79400" y="3519720"/>
              <a:ext cx="187200" cy="62280"/>
            </a:xfrm>
            <a:custGeom>
              <a:avLst/>
              <a:gdLst/>
              <a:ahLst/>
              <a:rect l="l" t="t" r="r" b="b"/>
              <a:pathLst>
                <a:path w="248" h="84">
                  <a:moveTo>
                    <a:pt x="0" y="84"/>
                  </a:moveTo>
                  <a:lnTo>
                    <a:pt x="62" y="62"/>
                  </a:lnTo>
                  <a:lnTo>
                    <a:pt x="124" y="41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66960" y="3924720"/>
              <a:ext cx="185760" cy="711360"/>
            </a:xfrm>
            <a:custGeom>
              <a:avLst/>
              <a:gdLst/>
              <a:ahLst/>
              <a:rect l="l" t="t" r="r" b="b"/>
              <a:pathLst>
                <a:path w="246" h="955">
                  <a:moveTo>
                    <a:pt x="0" y="955"/>
                  </a:moveTo>
                  <a:lnTo>
                    <a:pt x="31" y="834"/>
                  </a:lnTo>
                  <a:lnTo>
                    <a:pt x="62" y="713"/>
                  </a:lnTo>
                  <a:lnTo>
                    <a:pt x="93" y="591"/>
                  </a:lnTo>
                  <a:lnTo>
                    <a:pt x="122" y="469"/>
                  </a:lnTo>
                  <a:lnTo>
                    <a:pt x="153" y="348"/>
                  </a:lnTo>
                  <a:lnTo>
                    <a:pt x="184" y="229"/>
                  </a:lnTo>
                  <a:lnTo>
                    <a:pt x="215" y="112"/>
                  </a:lnTo>
                  <a:lnTo>
                    <a:pt x="231" y="5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52720" y="3320280"/>
              <a:ext cx="185760" cy="604080"/>
            </a:xfrm>
            <a:custGeom>
              <a:avLst/>
              <a:gdLst/>
              <a:ahLst/>
              <a:rect l="l" t="t" r="r" b="b"/>
              <a:pathLst>
                <a:path w="246" h="811">
                  <a:moveTo>
                    <a:pt x="0" y="811"/>
                  </a:moveTo>
                  <a:lnTo>
                    <a:pt x="31" y="699"/>
                  </a:lnTo>
                  <a:lnTo>
                    <a:pt x="62" y="587"/>
                  </a:lnTo>
                  <a:lnTo>
                    <a:pt x="93" y="477"/>
                  </a:lnTo>
                  <a:lnTo>
                    <a:pt x="107" y="422"/>
                  </a:lnTo>
                  <a:lnTo>
                    <a:pt x="122" y="368"/>
                  </a:lnTo>
                  <a:lnTo>
                    <a:pt x="138" y="316"/>
                  </a:lnTo>
                  <a:lnTo>
                    <a:pt x="153" y="265"/>
                  </a:lnTo>
                  <a:lnTo>
                    <a:pt x="169" y="215"/>
                  </a:lnTo>
                  <a:lnTo>
                    <a:pt x="184" y="168"/>
                  </a:lnTo>
                  <a:lnTo>
                    <a:pt x="200" y="122"/>
                  </a:lnTo>
                  <a:lnTo>
                    <a:pt x="215" y="79"/>
                  </a:lnTo>
                  <a:lnTo>
                    <a:pt x="231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38480" y="3051000"/>
              <a:ext cx="186120" cy="269280"/>
            </a:xfrm>
            <a:custGeom>
              <a:avLst/>
              <a:gdLst/>
              <a:ahLst/>
              <a:rect l="l" t="t" r="r" b="b"/>
              <a:pathLst>
                <a:path w="246" h="363">
                  <a:moveTo>
                    <a:pt x="0" y="363"/>
                  </a:moveTo>
                  <a:lnTo>
                    <a:pt x="14" y="327"/>
                  </a:lnTo>
                  <a:lnTo>
                    <a:pt x="31" y="295"/>
                  </a:lnTo>
                  <a:lnTo>
                    <a:pt x="45" y="265"/>
                  </a:lnTo>
                  <a:lnTo>
                    <a:pt x="62" y="237"/>
                  </a:lnTo>
                  <a:lnTo>
                    <a:pt x="76" y="212"/>
                  </a:lnTo>
                  <a:lnTo>
                    <a:pt x="93" y="189"/>
                  </a:lnTo>
                  <a:lnTo>
                    <a:pt x="107" y="167"/>
                  </a:lnTo>
                  <a:lnTo>
                    <a:pt x="122" y="146"/>
                  </a:lnTo>
                  <a:lnTo>
                    <a:pt x="138" y="125"/>
                  </a:lnTo>
                  <a:lnTo>
                    <a:pt x="153" y="108"/>
                  </a:lnTo>
                  <a:lnTo>
                    <a:pt x="184" y="71"/>
                  </a:lnTo>
                  <a:lnTo>
                    <a:pt x="215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24600" y="2873880"/>
              <a:ext cx="187200" cy="177120"/>
            </a:xfrm>
            <a:custGeom>
              <a:avLst/>
              <a:gdLst/>
              <a:ahLst/>
              <a:rect l="l" t="t" r="r" b="b"/>
              <a:pathLst>
                <a:path w="247" h="237">
                  <a:moveTo>
                    <a:pt x="0" y="237"/>
                  </a:moveTo>
                  <a:lnTo>
                    <a:pt x="31" y="202"/>
                  </a:lnTo>
                  <a:lnTo>
                    <a:pt x="62" y="168"/>
                  </a:lnTo>
                  <a:lnTo>
                    <a:pt x="93" y="137"/>
                  </a:lnTo>
                  <a:lnTo>
                    <a:pt x="124" y="107"/>
                  </a:lnTo>
                  <a:lnTo>
                    <a:pt x="154" y="80"/>
                  </a:lnTo>
                  <a:lnTo>
                    <a:pt x="185" y="52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12160" y="2744640"/>
              <a:ext cx="185760" cy="129240"/>
            </a:xfrm>
            <a:custGeom>
              <a:avLst/>
              <a:gdLst/>
              <a:ahLst/>
              <a:rect l="l" t="t" r="r" b="b"/>
              <a:pathLst>
                <a:path w="246" h="175">
                  <a:moveTo>
                    <a:pt x="0" y="175"/>
                  </a:moveTo>
                  <a:lnTo>
                    <a:pt x="31" y="150"/>
                  </a:lnTo>
                  <a:lnTo>
                    <a:pt x="62" y="126"/>
                  </a:lnTo>
                  <a:lnTo>
                    <a:pt x="124" y="81"/>
                  </a:lnTo>
                  <a:lnTo>
                    <a:pt x="184" y="3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97920" y="2640240"/>
              <a:ext cx="185760" cy="104040"/>
            </a:xfrm>
            <a:custGeom>
              <a:avLst/>
              <a:gdLst/>
              <a:ahLst/>
              <a:rect l="l" t="t" r="r" b="b"/>
              <a:pathLst>
                <a:path w="246" h="140">
                  <a:moveTo>
                    <a:pt x="0" y="140"/>
                  </a:moveTo>
                  <a:lnTo>
                    <a:pt x="62" y="101"/>
                  </a:lnTo>
                  <a:lnTo>
                    <a:pt x="123" y="66"/>
                  </a:lnTo>
                  <a:lnTo>
                    <a:pt x="184" y="3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83680" y="2553840"/>
              <a:ext cx="186120" cy="86400"/>
            </a:xfrm>
            <a:custGeom>
              <a:avLst/>
              <a:gdLst/>
              <a:ahLst/>
              <a:rect l="l" t="t" r="r" b="b"/>
              <a:pathLst>
                <a:path w="246" h="117">
                  <a:moveTo>
                    <a:pt x="0" y="117"/>
                  </a:moveTo>
                  <a:lnTo>
                    <a:pt x="62" y="86"/>
                  </a:lnTo>
                  <a:lnTo>
                    <a:pt x="123" y="56"/>
                  </a:lnTo>
                  <a:lnTo>
                    <a:pt x="184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70160" y="2479680"/>
              <a:ext cx="185760" cy="74160"/>
            </a:xfrm>
            <a:custGeom>
              <a:avLst/>
              <a:gdLst/>
              <a:ahLst/>
              <a:rect l="l" t="t" r="r" b="b"/>
              <a:pathLst>
                <a:path w="248" h="98">
                  <a:moveTo>
                    <a:pt x="0" y="98"/>
                  </a:moveTo>
                  <a:lnTo>
                    <a:pt x="62" y="72"/>
                  </a:lnTo>
                  <a:lnTo>
                    <a:pt x="124" y="47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5920" y="2415240"/>
              <a:ext cx="186120" cy="64080"/>
            </a:xfrm>
            <a:custGeom>
              <a:avLst/>
              <a:gdLst/>
              <a:ahLst/>
              <a:rect l="l" t="t" r="r" b="b"/>
              <a:pathLst>
                <a:path w="246" h="87">
                  <a:moveTo>
                    <a:pt x="0" y="87"/>
                  </a:moveTo>
                  <a:lnTo>
                    <a:pt x="124" y="4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2040" y="2358720"/>
              <a:ext cx="185760" cy="56520"/>
            </a:xfrm>
            <a:custGeom>
              <a:avLst/>
              <a:gdLst/>
              <a:ahLst/>
              <a:rect l="l" t="t" r="r" b="b"/>
              <a:pathLst>
                <a:path w="246" h="77">
                  <a:moveTo>
                    <a:pt x="0" y="77"/>
                  </a:moveTo>
                  <a:lnTo>
                    <a:pt x="62" y="57"/>
                  </a:lnTo>
                  <a:lnTo>
                    <a:pt x="122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21760" y="4280400"/>
              <a:ext cx="185760" cy="1067040"/>
            </a:xfrm>
            <a:custGeom>
              <a:avLst/>
              <a:gdLst/>
              <a:ahLst/>
              <a:rect l="l" t="t" r="r" b="b"/>
              <a:pathLst>
                <a:path w="246" h="1433">
                  <a:moveTo>
                    <a:pt x="0" y="1433"/>
                  </a:moveTo>
                  <a:lnTo>
                    <a:pt x="15" y="1342"/>
                  </a:lnTo>
                  <a:lnTo>
                    <a:pt x="31" y="1251"/>
                  </a:lnTo>
                  <a:lnTo>
                    <a:pt x="46" y="1156"/>
                  </a:lnTo>
                  <a:lnTo>
                    <a:pt x="62" y="1062"/>
                  </a:lnTo>
                  <a:lnTo>
                    <a:pt x="93" y="871"/>
                  </a:lnTo>
                  <a:lnTo>
                    <a:pt x="108" y="775"/>
                  </a:lnTo>
                  <a:lnTo>
                    <a:pt x="122" y="680"/>
                  </a:lnTo>
                  <a:lnTo>
                    <a:pt x="139" y="588"/>
                  </a:lnTo>
                  <a:lnTo>
                    <a:pt x="153" y="496"/>
                  </a:lnTo>
                  <a:lnTo>
                    <a:pt x="170" y="405"/>
                  </a:lnTo>
                  <a:lnTo>
                    <a:pt x="184" y="318"/>
                  </a:lnTo>
                  <a:lnTo>
                    <a:pt x="200" y="233"/>
                  </a:lnTo>
                  <a:lnTo>
                    <a:pt x="215" y="152"/>
                  </a:lnTo>
                  <a:lnTo>
                    <a:pt x="231" y="73"/>
                  </a:lnTo>
                  <a:lnTo>
                    <a:pt x="239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07520" y="3637440"/>
              <a:ext cx="185760" cy="642960"/>
            </a:xfrm>
            <a:custGeom>
              <a:avLst/>
              <a:gdLst/>
              <a:ahLst/>
              <a:rect l="l" t="t" r="r" b="b"/>
              <a:pathLst>
                <a:path w="246" h="864">
                  <a:moveTo>
                    <a:pt x="0" y="864"/>
                  </a:moveTo>
                  <a:lnTo>
                    <a:pt x="15" y="793"/>
                  </a:lnTo>
                  <a:lnTo>
                    <a:pt x="31" y="725"/>
                  </a:lnTo>
                  <a:lnTo>
                    <a:pt x="46" y="660"/>
                  </a:lnTo>
                  <a:lnTo>
                    <a:pt x="62" y="599"/>
                  </a:lnTo>
                  <a:lnTo>
                    <a:pt x="77" y="538"/>
                  </a:lnTo>
                  <a:lnTo>
                    <a:pt x="93" y="481"/>
                  </a:lnTo>
                  <a:lnTo>
                    <a:pt x="108" y="426"/>
                  </a:lnTo>
                  <a:lnTo>
                    <a:pt x="122" y="372"/>
                  </a:lnTo>
                  <a:lnTo>
                    <a:pt x="139" y="320"/>
                  </a:lnTo>
                  <a:lnTo>
                    <a:pt x="153" y="271"/>
                  </a:lnTo>
                  <a:lnTo>
                    <a:pt x="170" y="223"/>
                  </a:lnTo>
                  <a:lnTo>
                    <a:pt x="184" y="176"/>
                  </a:lnTo>
                  <a:lnTo>
                    <a:pt x="201" y="130"/>
                  </a:lnTo>
                  <a:lnTo>
                    <a:pt x="215" y="8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93280" y="3283200"/>
              <a:ext cx="186120" cy="35388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477"/>
                  </a:moveTo>
                  <a:lnTo>
                    <a:pt x="15" y="436"/>
                  </a:lnTo>
                  <a:lnTo>
                    <a:pt x="31" y="398"/>
                  </a:lnTo>
                  <a:lnTo>
                    <a:pt x="46" y="362"/>
                  </a:lnTo>
                  <a:lnTo>
                    <a:pt x="62" y="329"/>
                  </a:lnTo>
                  <a:lnTo>
                    <a:pt x="77" y="296"/>
                  </a:lnTo>
                  <a:lnTo>
                    <a:pt x="93" y="265"/>
                  </a:lnTo>
                  <a:lnTo>
                    <a:pt x="108" y="236"/>
                  </a:lnTo>
                  <a:lnTo>
                    <a:pt x="122" y="208"/>
                  </a:lnTo>
                  <a:lnTo>
                    <a:pt x="153" y="155"/>
                  </a:lnTo>
                  <a:lnTo>
                    <a:pt x="184" y="103"/>
                  </a:lnTo>
                  <a:lnTo>
                    <a:pt x="215" y="5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79400" y="3006360"/>
              <a:ext cx="187200" cy="276480"/>
            </a:xfrm>
            <a:custGeom>
              <a:avLst/>
              <a:gdLst/>
              <a:ahLst/>
              <a:rect l="l" t="t" r="r" b="b"/>
              <a:pathLst>
                <a:path w="248" h="371">
                  <a:moveTo>
                    <a:pt x="0" y="371"/>
                  </a:moveTo>
                  <a:lnTo>
                    <a:pt x="31" y="319"/>
                  </a:lnTo>
                  <a:lnTo>
                    <a:pt x="62" y="268"/>
                  </a:lnTo>
                  <a:lnTo>
                    <a:pt x="93" y="219"/>
                  </a:lnTo>
                  <a:lnTo>
                    <a:pt x="124" y="174"/>
                  </a:lnTo>
                  <a:lnTo>
                    <a:pt x="155" y="128"/>
                  </a:lnTo>
                  <a:lnTo>
                    <a:pt x="186" y="84"/>
                  </a:lnTo>
                  <a:lnTo>
                    <a:pt x="217" y="41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66960" y="2799360"/>
              <a:ext cx="185760" cy="206640"/>
            </a:xfrm>
            <a:custGeom>
              <a:avLst/>
              <a:gdLst/>
              <a:ahLst/>
              <a:rect l="l" t="t" r="r" b="b"/>
              <a:pathLst>
                <a:path w="246" h="279">
                  <a:moveTo>
                    <a:pt x="0" y="279"/>
                  </a:moveTo>
                  <a:lnTo>
                    <a:pt x="31" y="239"/>
                  </a:lnTo>
                  <a:lnTo>
                    <a:pt x="62" y="202"/>
                  </a:lnTo>
                  <a:lnTo>
                    <a:pt x="93" y="168"/>
                  </a:lnTo>
                  <a:lnTo>
                    <a:pt x="123" y="134"/>
                  </a:lnTo>
                  <a:lnTo>
                    <a:pt x="184" y="68"/>
                  </a:lnTo>
                  <a:lnTo>
                    <a:pt x="215" y="3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52720" y="2590920"/>
              <a:ext cx="185760" cy="20844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31" y="245"/>
                  </a:lnTo>
                  <a:lnTo>
                    <a:pt x="62" y="208"/>
                  </a:lnTo>
                  <a:lnTo>
                    <a:pt x="122" y="136"/>
                  </a:lnTo>
                  <a:lnTo>
                    <a:pt x="153" y="99"/>
                  </a:lnTo>
                  <a:lnTo>
                    <a:pt x="184" y="65"/>
                  </a:lnTo>
                  <a:lnTo>
                    <a:pt x="215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38480" y="2442240"/>
              <a:ext cx="186120" cy="148680"/>
            </a:xfrm>
            <a:custGeom>
              <a:avLst/>
              <a:gdLst/>
              <a:ahLst/>
              <a:rect l="l" t="t" r="r" b="b"/>
              <a:pathLst>
                <a:path w="246" h="199">
                  <a:moveTo>
                    <a:pt x="0" y="199"/>
                  </a:moveTo>
                  <a:lnTo>
                    <a:pt x="31" y="170"/>
                  </a:lnTo>
                  <a:lnTo>
                    <a:pt x="62" y="143"/>
                  </a:lnTo>
                  <a:lnTo>
                    <a:pt x="93" y="117"/>
                  </a:lnTo>
                  <a:lnTo>
                    <a:pt x="122" y="92"/>
                  </a:lnTo>
                  <a:lnTo>
                    <a:pt x="184" y="4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24600" y="2328840"/>
              <a:ext cx="187200" cy="113040"/>
            </a:xfrm>
            <a:custGeom>
              <a:avLst/>
              <a:gdLst/>
              <a:ahLst/>
              <a:rect l="l" t="t" r="r" b="b"/>
              <a:pathLst>
                <a:path w="247" h="153">
                  <a:moveTo>
                    <a:pt x="0" y="153"/>
                  </a:moveTo>
                  <a:lnTo>
                    <a:pt x="62" y="111"/>
                  </a:lnTo>
                  <a:lnTo>
                    <a:pt x="124" y="72"/>
                  </a:lnTo>
                  <a:lnTo>
                    <a:pt x="185" y="36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2160" y="2235240"/>
              <a:ext cx="185760" cy="93600"/>
            </a:xfrm>
            <a:custGeom>
              <a:avLst/>
              <a:gdLst/>
              <a:ahLst/>
              <a:rect l="l" t="t" r="r" b="b"/>
              <a:pathLst>
                <a:path w="246" h="125">
                  <a:moveTo>
                    <a:pt x="0" y="125"/>
                  </a:moveTo>
                  <a:lnTo>
                    <a:pt x="62" y="91"/>
                  </a:lnTo>
                  <a:lnTo>
                    <a:pt x="124" y="59"/>
                  </a:lnTo>
                  <a:lnTo>
                    <a:pt x="184" y="2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97920" y="2156400"/>
              <a:ext cx="185760" cy="784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3" y="5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83680" y="2088000"/>
              <a:ext cx="186120" cy="68400"/>
            </a:xfrm>
            <a:custGeom>
              <a:avLst/>
              <a:gdLst/>
              <a:ahLst/>
              <a:rect l="l" t="t" r="r" b="b"/>
              <a:pathLst>
                <a:path w="246" h="93">
                  <a:moveTo>
                    <a:pt x="0" y="93"/>
                  </a:moveTo>
                  <a:lnTo>
                    <a:pt x="123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70160" y="2026800"/>
              <a:ext cx="185760" cy="60840"/>
            </a:xfrm>
            <a:custGeom>
              <a:avLst/>
              <a:gdLst/>
              <a:ahLst/>
              <a:rect l="l" t="t" r="r" b="b"/>
              <a:pathLst>
                <a:path w="248" h="81">
                  <a:moveTo>
                    <a:pt x="0" y="81"/>
                  </a:moveTo>
                  <a:lnTo>
                    <a:pt x="124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55920" y="1973160"/>
              <a:ext cx="186120" cy="5364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0" y="72"/>
                  </a:moveTo>
                  <a:lnTo>
                    <a:pt x="124" y="3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1924200"/>
              <a:ext cx="185760" cy="48600"/>
            </a:xfrm>
            <a:custGeom>
              <a:avLst/>
              <a:gdLst/>
              <a:ahLst/>
              <a:rect l="l" t="t" r="r" b="b"/>
              <a:pathLst>
                <a:path w="246" h="66">
                  <a:moveTo>
                    <a:pt x="0" y="66"/>
                  </a:moveTo>
                  <a:lnTo>
                    <a:pt x="122" y="3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21760" y="4280400"/>
              <a:ext cx="185760" cy="1067040"/>
            </a:xfrm>
            <a:custGeom>
              <a:avLst/>
              <a:gdLst/>
              <a:ahLst/>
              <a:rect l="l" t="t" r="r" b="b"/>
              <a:pathLst>
                <a:path w="246" h="1433">
                  <a:moveTo>
                    <a:pt x="0" y="1433"/>
                  </a:moveTo>
                  <a:lnTo>
                    <a:pt x="15" y="1342"/>
                  </a:lnTo>
                  <a:lnTo>
                    <a:pt x="31" y="1251"/>
                  </a:lnTo>
                  <a:lnTo>
                    <a:pt x="46" y="1156"/>
                  </a:lnTo>
                  <a:lnTo>
                    <a:pt x="62" y="1062"/>
                  </a:lnTo>
                  <a:lnTo>
                    <a:pt x="93" y="871"/>
                  </a:lnTo>
                  <a:lnTo>
                    <a:pt x="108" y="775"/>
                  </a:lnTo>
                  <a:lnTo>
                    <a:pt x="122" y="680"/>
                  </a:lnTo>
                  <a:lnTo>
                    <a:pt x="139" y="588"/>
                  </a:lnTo>
                  <a:lnTo>
                    <a:pt x="153" y="496"/>
                  </a:lnTo>
                  <a:lnTo>
                    <a:pt x="170" y="405"/>
                  </a:lnTo>
                  <a:lnTo>
                    <a:pt x="184" y="318"/>
                  </a:lnTo>
                  <a:lnTo>
                    <a:pt x="200" y="233"/>
                  </a:lnTo>
                  <a:lnTo>
                    <a:pt x="215" y="152"/>
                  </a:lnTo>
                  <a:lnTo>
                    <a:pt x="231" y="73"/>
                  </a:lnTo>
                  <a:lnTo>
                    <a:pt x="239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07520" y="3637440"/>
              <a:ext cx="185760" cy="642960"/>
            </a:xfrm>
            <a:custGeom>
              <a:avLst/>
              <a:gdLst/>
              <a:ahLst/>
              <a:rect l="l" t="t" r="r" b="b"/>
              <a:pathLst>
                <a:path w="246" h="864">
                  <a:moveTo>
                    <a:pt x="0" y="864"/>
                  </a:moveTo>
                  <a:lnTo>
                    <a:pt x="15" y="793"/>
                  </a:lnTo>
                  <a:lnTo>
                    <a:pt x="31" y="725"/>
                  </a:lnTo>
                  <a:lnTo>
                    <a:pt x="46" y="660"/>
                  </a:lnTo>
                  <a:lnTo>
                    <a:pt x="62" y="599"/>
                  </a:lnTo>
                  <a:lnTo>
                    <a:pt x="77" y="538"/>
                  </a:lnTo>
                  <a:lnTo>
                    <a:pt x="93" y="481"/>
                  </a:lnTo>
                  <a:lnTo>
                    <a:pt x="108" y="426"/>
                  </a:lnTo>
                  <a:lnTo>
                    <a:pt x="122" y="372"/>
                  </a:lnTo>
                  <a:lnTo>
                    <a:pt x="139" y="320"/>
                  </a:lnTo>
                  <a:lnTo>
                    <a:pt x="153" y="271"/>
                  </a:lnTo>
                  <a:lnTo>
                    <a:pt x="170" y="223"/>
                  </a:lnTo>
                  <a:lnTo>
                    <a:pt x="184" y="176"/>
                  </a:lnTo>
                  <a:lnTo>
                    <a:pt x="201" y="130"/>
                  </a:lnTo>
                  <a:lnTo>
                    <a:pt x="215" y="8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93280" y="3283200"/>
              <a:ext cx="186120" cy="35388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477"/>
                  </a:moveTo>
                  <a:lnTo>
                    <a:pt x="15" y="436"/>
                  </a:lnTo>
                  <a:lnTo>
                    <a:pt x="31" y="398"/>
                  </a:lnTo>
                  <a:lnTo>
                    <a:pt x="46" y="362"/>
                  </a:lnTo>
                  <a:lnTo>
                    <a:pt x="62" y="327"/>
                  </a:lnTo>
                  <a:lnTo>
                    <a:pt x="77" y="295"/>
                  </a:lnTo>
                  <a:lnTo>
                    <a:pt x="93" y="264"/>
                  </a:lnTo>
                  <a:lnTo>
                    <a:pt x="108" y="234"/>
                  </a:lnTo>
                  <a:lnTo>
                    <a:pt x="122" y="206"/>
                  </a:lnTo>
                  <a:lnTo>
                    <a:pt x="153" y="152"/>
                  </a:lnTo>
                  <a:lnTo>
                    <a:pt x="184" y="100"/>
                  </a:lnTo>
                  <a:lnTo>
                    <a:pt x="215" y="5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79400" y="3028680"/>
              <a:ext cx="187200" cy="254160"/>
            </a:xfrm>
            <a:custGeom>
              <a:avLst/>
              <a:gdLst/>
              <a:ahLst/>
              <a:rect l="l" t="t" r="r" b="b"/>
              <a:pathLst>
                <a:path w="248" h="342">
                  <a:moveTo>
                    <a:pt x="0" y="342"/>
                  </a:moveTo>
                  <a:lnTo>
                    <a:pt x="31" y="292"/>
                  </a:lnTo>
                  <a:lnTo>
                    <a:pt x="62" y="245"/>
                  </a:lnTo>
                  <a:lnTo>
                    <a:pt x="93" y="199"/>
                  </a:lnTo>
                  <a:lnTo>
                    <a:pt x="124" y="155"/>
                  </a:lnTo>
                  <a:lnTo>
                    <a:pt x="155" y="114"/>
                  </a:lnTo>
                  <a:lnTo>
                    <a:pt x="186" y="74"/>
                  </a:lnTo>
                  <a:lnTo>
                    <a:pt x="217" y="37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66960" y="2858760"/>
              <a:ext cx="185760" cy="169560"/>
            </a:xfrm>
            <a:custGeom>
              <a:avLst/>
              <a:gdLst/>
              <a:ahLst/>
              <a:rect l="l" t="t" r="r" b="b"/>
              <a:pathLst>
                <a:path w="246" h="227">
                  <a:moveTo>
                    <a:pt x="0" y="227"/>
                  </a:moveTo>
                  <a:lnTo>
                    <a:pt x="31" y="193"/>
                  </a:lnTo>
                  <a:lnTo>
                    <a:pt x="62" y="161"/>
                  </a:lnTo>
                  <a:lnTo>
                    <a:pt x="93" y="131"/>
                  </a:lnTo>
                  <a:lnTo>
                    <a:pt x="123" y="103"/>
                  </a:lnTo>
                  <a:lnTo>
                    <a:pt x="153" y="77"/>
                  </a:lnTo>
                  <a:lnTo>
                    <a:pt x="184" y="5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2720" y="2732400"/>
              <a:ext cx="185760" cy="126360"/>
            </a:xfrm>
            <a:custGeom>
              <a:avLst/>
              <a:gdLst/>
              <a:ahLst/>
              <a:rect l="l" t="t" r="r" b="b"/>
              <a:pathLst>
                <a:path w="246" h="171">
                  <a:moveTo>
                    <a:pt x="0" y="171"/>
                  </a:moveTo>
                  <a:lnTo>
                    <a:pt x="31" y="148"/>
                  </a:lnTo>
                  <a:lnTo>
                    <a:pt x="62" y="124"/>
                  </a:lnTo>
                  <a:lnTo>
                    <a:pt x="122" y="80"/>
                  </a:lnTo>
                  <a:lnTo>
                    <a:pt x="184" y="3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8480" y="2629800"/>
              <a:ext cx="186120" cy="102600"/>
            </a:xfrm>
            <a:custGeom>
              <a:avLst/>
              <a:gdLst/>
              <a:ahLst/>
              <a:rect l="l" t="t" r="r" b="b"/>
              <a:pathLst>
                <a:path w="246" h="137">
                  <a:moveTo>
                    <a:pt x="0" y="137"/>
                  </a:moveTo>
                  <a:lnTo>
                    <a:pt x="62" y="101"/>
                  </a:lnTo>
                  <a:lnTo>
                    <a:pt x="122" y="65"/>
                  </a:lnTo>
                  <a:lnTo>
                    <a:pt x="184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24600" y="2545200"/>
              <a:ext cx="187200" cy="84600"/>
            </a:xfrm>
            <a:custGeom>
              <a:avLst/>
              <a:gdLst/>
              <a:ahLst/>
              <a:rect l="l" t="t" r="r" b="b"/>
              <a:pathLst>
                <a:path w="247" h="115">
                  <a:moveTo>
                    <a:pt x="0" y="115"/>
                  </a:moveTo>
                  <a:lnTo>
                    <a:pt x="62" y="84"/>
                  </a:lnTo>
                  <a:lnTo>
                    <a:pt x="124" y="55"/>
                  </a:lnTo>
                  <a:lnTo>
                    <a:pt x="185" y="2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12160" y="2472120"/>
              <a:ext cx="185760" cy="7272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0" y="97"/>
                  </a:moveTo>
                  <a:lnTo>
                    <a:pt x="62" y="71"/>
                  </a:lnTo>
                  <a:lnTo>
                    <a:pt x="124" y="4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97920" y="2408040"/>
              <a:ext cx="185760" cy="6408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0" y="85"/>
                  </a:moveTo>
                  <a:lnTo>
                    <a:pt x="123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83680" y="2351160"/>
              <a:ext cx="186120" cy="56520"/>
            </a:xfrm>
            <a:custGeom>
              <a:avLst/>
              <a:gdLst/>
              <a:ahLst/>
              <a:rect l="l" t="t" r="r" b="b"/>
              <a:pathLst>
                <a:path w="246" h="77">
                  <a:moveTo>
                    <a:pt x="0" y="77"/>
                  </a:moveTo>
                  <a:lnTo>
                    <a:pt x="123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70160" y="2300760"/>
              <a:ext cx="185760" cy="50400"/>
            </a:xfrm>
            <a:custGeom>
              <a:avLst/>
              <a:gdLst/>
              <a:ahLst/>
              <a:rect l="l" t="t" r="r" b="b"/>
              <a:pathLst>
                <a:path w="248" h="68">
                  <a:moveTo>
                    <a:pt x="0" y="68"/>
                  </a:moveTo>
                  <a:lnTo>
                    <a:pt x="124" y="33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55920" y="2254680"/>
              <a:ext cx="186120" cy="457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0" y="63"/>
                  </a:moveTo>
                  <a:lnTo>
                    <a:pt x="12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42040" y="2212920"/>
              <a:ext cx="185760" cy="41760"/>
            </a:xfrm>
            <a:custGeom>
              <a:avLst/>
              <a:gdLst/>
              <a:ahLst/>
              <a:rect l="l" t="t" r="r" b="b"/>
              <a:pathLst>
                <a:path w="246" h="56">
                  <a:moveTo>
                    <a:pt x="0" y="56"/>
                  </a:moveTo>
                  <a:lnTo>
                    <a:pt x="122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24600" y="2275200"/>
              <a:ext cx="187200" cy="354240"/>
            </a:xfrm>
            <a:custGeom>
              <a:avLst/>
              <a:gdLst/>
              <a:ahLst/>
              <a:rect l="l" t="t" r="r" b="b"/>
              <a:pathLst>
                <a:path w="247" h="477">
                  <a:moveTo>
                    <a:pt x="0" y="477"/>
                  </a:moveTo>
                  <a:lnTo>
                    <a:pt x="31" y="417"/>
                  </a:lnTo>
                  <a:lnTo>
                    <a:pt x="62" y="354"/>
                  </a:lnTo>
                  <a:lnTo>
                    <a:pt x="93" y="290"/>
                  </a:lnTo>
                  <a:lnTo>
                    <a:pt x="124" y="227"/>
                  </a:lnTo>
                  <a:lnTo>
                    <a:pt x="154" y="165"/>
                  </a:lnTo>
                  <a:lnTo>
                    <a:pt x="185" y="106"/>
                  </a:lnTo>
                  <a:lnTo>
                    <a:pt x="202" y="77"/>
                  </a:lnTo>
                  <a:lnTo>
                    <a:pt x="216" y="50"/>
                  </a:lnTo>
                  <a:lnTo>
                    <a:pt x="233" y="25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12160" y="2067120"/>
              <a:ext cx="185760" cy="20808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15" y="256"/>
                  </a:lnTo>
                  <a:lnTo>
                    <a:pt x="31" y="236"/>
                  </a:lnTo>
                  <a:lnTo>
                    <a:pt x="46" y="215"/>
                  </a:lnTo>
                  <a:lnTo>
                    <a:pt x="62" y="196"/>
                  </a:lnTo>
                  <a:lnTo>
                    <a:pt x="93" y="161"/>
                  </a:lnTo>
                  <a:lnTo>
                    <a:pt x="124" y="128"/>
                  </a:lnTo>
                  <a:lnTo>
                    <a:pt x="153" y="96"/>
                  </a:lnTo>
                  <a:lnTo>
                    <a:pt x="184" y="65"/>
                  </a:lnTo>
                  <a:lnTo>
                    <a:pt x="215" y="3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07520" y="4689720"/>
              <a:ext cx="185760" cy="562680"/>
            </a:xfrm>
            <a:custGeom>
              <a:avLst/>
              <a:gdLst/>
              <a:ahLst/>
              <a:rect l="l" t="t" r="r" b="b"/>
              <a:pathLst>
                <a:path w="246" h="756">
                  <a:moveTo>
                    <a:pt x="0" y="756"/>
                  </a:moveTo>
                  <a:lnTo>
                    <a:pt x="31" y="660"/>
                  </a:lnTo>
                  <a:lnTo>
                    <a:pt x="62" y="561"/>
                  </a:lnTo>
                  <a:lnTo>
                    <a:pt x="93" y="461"/>
                  </a:lnTo>
                  <a:lnTo>
                    <a:pt x="122" y="362"/>
                  </a:lnTo>
                  <a:lnTo>
                    <a:pt x="153" y="265"/>
                  </a:lnTo>
                  <a:lnTo>
                    <a:pt x="170" y="218"/>
                  </a:lnTo>
                  <a:lnTo>
                    <a:pt x="184" y="172"/>
                  </a:lnTo>
                  <a:lnTo>
                    <a:pt x="201" y="126"/>
                  </a:lnTo>
                  <a:lnTo>
                    <a:pt x="215" y="82"/>
                  </a:lnTo>
                  <a:lnTo>
                    <a:pt x="231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93280" y="4307400"/>
              <a:ext cx="186120" cy="382320"/>
            </a:xfrm>
            <a:custGeom>
              <a:avLst/>
              <a:gdLst/>
              <a:ahLst/>
              <a:rect l="l" t="t" r="r" b="b"/>
              <a:pathLst>
                <a:path w="246" h="516">
                  <a:moveTo>
                    <a:pt x="0" y="516"/>
                  </a:moveTo>
                  <a:lnTo>
                    <a:pt x="15" y="476"/>
                  </a:lnTo>
                  <a:lnTo>
                    <a:pt x="31" y="439"/>
                  </a:lnTo>
                  <a:lnTo>
                    <a:pt x="46" y="402"/>
                  </a:lnTo>
                  <a:lnTo>
                    <a:pt x="62" y="367"/>
                  </a:lnTo>
                  <a:lnTo>
                    <a:pt x="93" y="299"/>
                  </a:lnTo>
                  <a:lnTo>
                    <a:pt x="122" y="234"/>
                  </a:lnTo>
                  <a:lnTo>
                    <a:pt x="153" y="173"/>
                  </a:lnTo>
                  <a:lnTo>
                    <a:pt x="184" y="114"/>
                  </a:lnTo>
                  <a:lnTo>
                    <a:pt x="215" y="5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79400" y="4024440"/>
              <a:ext cx="187200" cy="282600"/>
            </a:xfrm>
            <a:custGeom>
              <a:avLst/>
              <a:gdLst/>
              <a:ahLst/>
              <a:rect l="l" t="t" r="r" b="b"/>
              <a:pathLst>
                <a:path w="248" h="380">
                  <a:moveTo>
                    <a:pt x="0" y="380"/>
                  </a:moveTo>
                  <a:lnTo>
                    <a:pt x="31" y="326"/>
                  </a:lnTo>
                  <a:lnTo>
                    <a:pt x="62" y="273"/>
                  </a:lnTo>
                  <a:lnTo>
                    <a:pt x="93" y="221"/>
                  </a:lnTo>
                  <a:lnTo>
                    <a:pt x="124" y="172"/>
                  </a:lnTo>
                  <a:lnTo>
                    <a:pt x="155" y="127"/>
                  </a:lnTo>
                  <a:lnTo>
                    <a:pt x="186" y="83"/>
                  </a:lnTo>
                  <a:lnTo>
                    <a:pt x="217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66960" y="3843000"/>
              <a:ext cx="185760" cy="181440"/>
            </a:xfrm>
            <a:custGeom>
              <a:avLst/>
              <a:gdLst/>
              <a:ahLst/>
              <a:rect l="l" t="t" r="r" b="b"/>
              <a:pathLst>
                <a:path w="246" h="243">
                  <a:moveTo>
                    <a:pt x="0" y="243"/>
                  </a:moveTo>
                  <a:lnTo>
                    <a:pt x="31" y="206"/>
                  </a:lnTo>
                  <a:lnTo>
                    <a:pt x="62" y="171"/>
                  </a:lnTo>
                  <a:lnTo>
                    <a:pt x="93" y="138"/>
                  </a:lnTo>
                  <a:lnTo>
                    <a:pt x="123" y="109"/>
                  </a:lnTo>
                  <a:lnTo>
                    <a:pt x="153" y="81"/>
                  </a:lnTo>
                  <a:lnTo>
                    <a:pt x="184" y="5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52720" y="3708720"/>
              <a:ext cx="185760" cy="13392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0" y="180"/>
                  </a:moveTo>
                  <a:lnTo>
                    <a:pt x="31" y="155"/>
                  </a:lnTo>
                  <a:lnTo>
                    <a:pt x="62" y="130"/>
                  </a:lnTo>
                  <a:lnTo>
                    <a:pt x="122" y="84"/>
                  </a:lnTo>
                  <a:lnTo>
                    <a:pt x="184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38480" y="3603240"/>
              <a:ext cx="186120" cy="105480"/>
            </a:xfrm>
            <a:custGeom>
              <a:avLst/>
              <a:gdLst/>
              <a:ahLst/>
              <a:rect l="l" t="t" r="r" b="b"/>
              <a:pathLst>
                <a:path w="246" h="143">
                  <a:moveTo>
                    <a:pt x="0" y="143"/>
                  </a:moveTo>
                  <a:lnTo>
                    <a:pt x="62" y="105"/>
                  </a:lnTo>
                  <a:lnTo>
                    <a:pt x="122" y="68"/>
                  </a:lnTo>
                  <a:lnTo>
                    <a:pt x="184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24600" y="3515400"/>
              <a:ext cx="187200" cy="87480"/>
            </a:xfrm>
            <a:custGeom>
              <a:avLst/>
              <a:gdLst/>
              <a:ahLst/>
              <a:rect l="l" t="t" r="r" b="b"/>
              <a:pathLst>
                <a:path w="247" h="118">
                  <a:moveTo>
                    <a:pt x="0" y="118"/>
                  </a:moveTo>
                  <a:lnTo>
                    <a:pt x="62" y="87"/>
                  </a:lnTo>
                  <a:lnTo>
                    <a:pt x="124" y="56"/>
                  </a:lnTo>
                  <a:lnTo>
                    <a:pt x="185" y="28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12160" y="3440880"/>
              <a:ext cx="185760" cy="74520"/>
            </a:xfrm>
            <a:custGeom>
              <a:avLst/>
              <a:gdLst/>
              <a:ahLst/>
              <a:rect l="l" t="t" r="r" b="b"/>
              <a:pathLst>
                <a:path w="246" h="100">
                  <a:moveTo>
                    <a:pt x="0" y="100"/>
                  </a:moveTo>
                  <a:lnTo>
                    <a:pt x="62" y="74"/>
                  </a:lnTo>
                  <a:lnTo>
                    <a:pt x="124" y="4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97920" y="3373920"/>
              <a:ext cx="185760" cy="66600"/>
            </a:xfrm>
            <a:custGeom>
              <a:avLst/>
              <a:gdLst/>
              <a:ahLst/>
              <a:rect l="l" t="t" r="r" b="b"/>
              <a:pathLst>
                <a:path w="246" h="88">
                  <a:moveTo>
                    <a:pt x="0" y="88"/>
                  </a:moveTo>
                  <a:lnTo>
                    <a:pt x="123" y="4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83680" y="3315960"/>
              <a:ext cx="186120" cy="57960"/>
            </a:xfrm>
            <a:custGeom>
              <a:avLst/>
              <a:gdLst/>
              <a:ahLst/>
              <a:rect l="l" t="t" r="r" b="b"/>
              <a:pathLst>
                <a:path w="246" h="78">
                  <a:moveTo>
                    <a:pt x="0" y="78"/>
                  </a:moveTo>
                  <a:lnTo>
                    <a:pt x="123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70160" y="3265200"/>
              <a:ext cx="185760" cy="50400"/>
            </a:xfrm>
            <a:custGeom>
              <a:avLst/>
              <a:gdLst/>
              <a:ahLst/>
              <a:rect l="l" t="t" r="r" b="b"/>
              <a:pathLst>
                <a:path w="248" h="70">
                  <a:moveTo>
                    <a:pt x="0" y="70"/>
                  </a:moveTo>
                  <a:lnTo>
                    <a:pt x="124" y="34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55920" y="3217680"/>
              <a:ext cx="186120" cy="475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0" y="63"/>
                  </a:moveTo>
                  <a:lnTo>
                    <a:pt x="12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42040" y="3174480"/>
              <a:ext cx="185760" cy="43200"/>
            </a:xfrm>
            <a:custGeom>
              <a:avLst/>
              <a:gdLst/>
              <a:ahLst/>
              <a:rect l="l" t="t" r="r" b="b"/>
              <a:pathLst>
                <a:path w="246" h="59">
                  <a:moveTo>
                    <a:pt x="0" y="59"/>
                  </a:moveTo>
                  <a:lnTo>
                    <a:pt x="122" y="3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00440" y="5720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08640" y="45396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6480" y="3359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5400" y="217872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5400" y="997200"/>
              <a:ext cx="64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340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646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9600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276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82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032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2236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5224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920" y="622152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6200000">
              <a:off x="-1237320" y="3203640"/>
              <a:ext cx="342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grated Aperture (km^2*str*ye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00000" y="4631760"/>
              <a:ext cx="87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Fly'e E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98880" y="405720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G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6720" y="3528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9966"/>
                  </a:solidFill>
                  <a:latin typeface="Arial"/>
                </a:rPr>
                <a:t>H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11240" y="286200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uger-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71800" y="21492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cccc"/>
                  </a:solidFill>
                  <a:latin typeface="Arial"/>
                </a:rPr>
                <a:t>E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59400" y="2799360"/>
              <a:ext cx="79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Auger-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42240" y="1650240"/>
              <a:ext cx="112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</a:rPr>
                <a:t>Auger(S+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82800" y="358956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351080" y="1989000"/>
            <a:ext cx="5813280" cy="3749760"/>
          </a:xfrm>
          <a:custGeom>
            <a:avLst/>
            <a:gdLst/>
            <a:ahLst/>
            <a:rect l="l" t="t" r="r" b="b"/>
            <a:pathLst>
              <a:path w="3662" h="2362">
                <a:moveTo>
                  <a:pt x="0" y="2362"/>
                </a:moveTo>
                <a:cubicBezTo>
                  <a:pt x="58" y="2307"/>
                  <a:pt x="208" y="2144"/>
                  <a:pt x="351" y="2041"/>
                </a:cubicBezTo>
                <a:cubicBezTo>
                  <a:pt x="494" y="1938"/>
                  <a:pt x="718" y="1824"/>
                  <a:pt x="860" y="1744"/>
                </a:cubicBezTo>
                <a:cubicBezTo>
                  <a:pt x="1002" y="1664"/>
                  <a:pt x="1061" y="1628"/>
                  <a:pt x="1203" y="1560"/>
                </a:cubicBezTo>
                <a:cubicBezTo>
                  <a:pt x="1345" y="1492"/>
                  <a:pt x="1572" y="1397"/>
                  <a:pt x="1712" y="1335"/>
                </a:cubicBezTo>
                <a:cubicBezTo>
                  <a:pt x="1852" y="1273"/>
                  <a:pt x="1940" y="1238"/>
                  <a:pt x="2046" y="1185"/>
                </a:cubicBezTo>
                <a:cubicBezTo>
                  <a:pt x="2152" y="1132"/>
                  <a:pt x="2256" y="1101"/>
                  <a:pt x="2346" y="1018"/>
                </a:cubicBezTo>
                <a:cubicBezTo>
                  <a:pt x="2436" y="935"/>
                  <a:pt x="2495" y="801"/>
                  <a:pt x="2588" y="684"/>
                </a:cubicBezTo>
                <a:cubicBezTo>
                  <a:pt x="2681" y="567"/>
                  <a:pt x="2792" y="411"/>
                  <a:pt x="2906" y="316"/>
                </a:cubicBezTo>
                <a:cubicBezTo>
                  <a:pt x="3020" y="221"/>
                  <a:pt x="3147" y="169"/>
                  <a:pt x="3273" y="116"/>
                </a:cubicBezTo>
                <a:cubicBezTo>
                  <a:pt x="3399" y="63"/>
                  <a:pt x="3581" y="24"/>
                  <a:pt x="3662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5BD-C6F9-4A4B-B5C2-2FBE9864FA26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515E2-9DD5-4F7D-8EA9-F651D5F64E99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55640" y="362520"/>
            <a:ext cx="612936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Gravitation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r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URIG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ni-Grai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UAL R&amp;D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OG (Nautilus + Explo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) Interfer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o-600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RG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G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SA Pathfinder/LI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rge Underground Interferome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60720" y="2349360"/>
            <a:ext cx="397548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IGO:  260 M€ (US co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dv.Ligo: +210 M€ (d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VIRGO: 85 M€ (cap.inv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ISA: 200 M€ (ESA co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UI: 200 M€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ADF-BCC5-4FF2-8BCD-E9A78FA03337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4A01E-8639-4887-98E7-3DADA4C4ABF4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11280" y="397080"/>
            <a:ext cx="69832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Low Energy Neutrino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Proton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V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T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orex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NO 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LACIER    (100 kton LAr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NA          (50 kt scintillator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MEMPHYS (Water Megatonne)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58920" y="4005360"/>
            <a:ext cx="223056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500-800 M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55960" y="580536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~ 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340000" y="5157360"/>
            <a:ext cx="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68E-0E63-4E8E-9246-F5EE21CA7FCA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F5C88-0D07-491D-8604-8C39E7217289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process of cooperation and concentration is on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 community has a lead position in many field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infancy to maturity: the past 1-2 decades have born the instruments &amp; methods for doing science with high discovery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lerated increase in sensitivity in nearly all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admap will reflect this process, make the physics case to funding agencies and the outsid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8160" y="5445000"/>
            <a:ext cx="839196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live in an exciting period. Lets make use of the chanc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230-D093-46A7-85F5-847449179437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CBE86-3537-46A3-B3C7-D3D5F36DA536}" type="datetime1">
              <a:rPr lang="en-US"/>
              <a:t>07/28/26</a:t>
            </a:fld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77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pen sessions not clearly enough advertised as open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ommendations  reasonable but often too minimal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ommendations did not reach the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hey even did not reach the presenters (if not inofficia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asonable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M3Net design study profited from PRC recommendations via communication channels between SC and Bru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 translated PRC recommendations to a support for I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ommon understanding among the PRC members and style of discussion form a good basis for roadmap committ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4360" y="260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Comments on PRC Work and Impa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881-AF21-4F6D-8E9F-C756A67D93E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D410E-D6A7-4FBD-8FAA-2ADD579E29A6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77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ore transparen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pPEC web page   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https://ptweb.desy.de/ap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raft of Roadmap will be placed to the web for discussion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pPEC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pPEC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ill improve will advent of  ApPE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esentation of plans to the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AUP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his Town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oadmap Meeting in April/May 2006 (see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change of information with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oser contacts between ILIAS, HEAPNET and ApPEC P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260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Plans for Impro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A31-599E-4B0F-A0C4-9083415721A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172C6-4232-4ABD-8F5A-BF7C1A03848A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5694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eering Committee has charged PRC to write a roadmap on Astroparticle Physics in Europe over the next 10 years, with a focus to the next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mote astroparticle phys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imulate coordination and cooperation within the European APP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epare future decisions on National and Europea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47640" y="476280"/>
            <a:ext cx="604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stroparticle Roadm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DEB-45CD-4010-A3B1-511FD6E2B81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A9359-5F9E-4D0F-A69F-5C835C5A5978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ees of the roadmap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tional funding ag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l physics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r own community (shaping and rationalize our view on goals and prioriti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EC roadmap will take note of existing national roadmaps. For national roadmaps being writt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xchange of views and pl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put to ESFRI and FP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ose connection to ILIAS, HEAPNE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stroparticle Roadm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248-1927-469E-B950-C6B87AF28A0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4B270-25D3-46D9-AEBE-FA62A979D47F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oadmap intend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l the field to the outsid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 coordination and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 the development of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ntify critical points for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oadmap will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lare decisions w. r. t. experiments and techniques which have to be taken by the cooperating/competing expert groups working in th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640" y="333360"/>
            <a:ext cx="813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at is the intention of the roadmap, and what n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388-8793-4563-B8A2-E424E1BE323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F46A7-7555-4A97-8113-24DECFB376FA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38102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k Avig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 Bernab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Bergho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onid Bezru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erre Binetr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s Blu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rsten Danz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z v. Feilitz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rique Ferna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ner Hof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Iliopo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i K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32000" y="1628280"/>
            <a:ext cx="3809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olo Lip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el Martin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onio Mas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oit M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sco Ro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Rub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ir Sark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enther Si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ard Smad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el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 Spi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n Wat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827-E64A-4DE6-8A9B-F4C60C967F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1908C-2C91-4FB7-8903-DA20558EE825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7:14:56Z</dcterms:created>
  <dc:creator>csspier</dc:creator>
  <dc:description/>
  <dc:language>en-US</dc:language>
  <cp:lastModifiedBy>nb29</cp:lastModifiedBy>
  <dcterms:modified xsi:type="dcterms:W3CDTF">2005-11-25T09:20:38Z</dcterms:modified>
  <cp:revision>55</cp:revision>
  <dc:subject/>
  <dc:title>PowerPoint-Präsentation</dc:title>
</cp:coreProperties>
</file>